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7742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6281C51-68BA-4C80-9D83-8FD31C05788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46248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436800" y="160452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852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46248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436800" y="3682080"/>
            <a:ext cx="2832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88520" y="273600"/>
            <a:ext cx="8796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95720" y="368208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885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95720" y="1604520"/>
            <a:ext cx="429228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8520" y="3682080"/>
            <a:ext cx="8796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14280" y="13716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88520" y="273600"/>
            <a:ext cx="8796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88520" y="1604520"/>
            <a:ext cx="8796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ffffff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ffffff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314280" y="0"/>
            <a:ext cx="9134640" cy="684864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>
            <a:off x="1000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38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4280" y="3429000"/>
            <a:ext cx="8026560" cy="0"/>
          </a:xfrm>
          <a:prstGeom prst="line">
            <a:avLst/>
          </a:prstGeom>
          <a:ln w="3816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9080" rIns="109080" tIns="-64080" bIns="-64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1174680" y="1066680"/>
            <a:ext cx="5997600" cy="40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</a:t>
            </a:r>
            <a:br>
              <a:rPr sz="4400"/>
            </a:br>
            <a:br>
              <a:rPr sz="4400"/>
            </a:br>
            <a:br>
              <a:rPr sz="4400"/>
            </a:br>
            <a:r>
              <a:rPr b="0" lang="en-US" sz="36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Andrew Tridgell</a:t>
            </a:r>
            <a:br>
              <a:rPr sz="3600"/>
            </a:br>
            <a:r>
              <a:rPr b="0" lang="en-US" sz="32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amba-team@samba.anu.edu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048520" y="324000"/>
            <a:ext cx="1127160" cy="2620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514440" y="237960"/>
            <a:ext cx="800280" cy="73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Unix CIFS Client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diverse implementa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client is ftp-lik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fs is 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lib is a portable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CIFS clients are not widely used becaus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 authentication interface is awkwar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servers lack full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links and permission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clien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349280" y="1676520"/>
            <a:ext cx="7728120" cy="425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esigned as a diagnostic too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little sanity check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imple command line interfac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extensib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asily change packets at the bit/byt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utomated backups of PCs to Un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ing gateway from Unix to P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d in scripts for installation/monitor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essaging via WinPopU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f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true SMB filesystem for Linu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bas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tegrates with VFS 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s supplied at mount tim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s only a small subset of SMB feat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MBli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portable SMB libra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ims to integrate into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ill eventualy replace smbcli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lti-transport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so has other us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erver admin too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torture tes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Policy versus Protocol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IFS specifies a lot of policy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egal/illegal filena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an’t delete read-only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: Building a better SMB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is work to do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separate application API from filesyste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functions need consolida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pecification need to be very detail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w authentication model need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Beyond a filesyste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 the Internet environ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model isn’t always ide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s often have rotten network efficienc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is is often the applications faul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 data update mechanis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lgorithms are needed - rsync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Referenc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mba survey: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http://samba.canberra.edu.au/pub/samba/surve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urce code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tp://samba.anu.edu.au/pub/samb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The SMB Heritag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s the DOS/Windows API on the wi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gets extended in parallel with Wind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MB implicitly assumes many DOS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very rich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PI is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Times New Roman"/>
                <a:ea typeface="Times New Roman"/>
              </a:rPr>
              <a:t>very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uch simpler API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VFS layer is smal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695160" y="266760"/>
            <a:ext cx="7772400" cy="12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Is there demand for CIFS on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es! The Samba Survey shows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iggest users are corpor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argest site has 15000 users on 1200 serv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orporate and business users make up over 50% of respon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dividual users contribute only 4%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often used beside non-unix servers (mostly NT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latforms dominated by SunOS and Linu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ost common “wish list” is full NT domain security integr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riting a CIFS serv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implementor must decide 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exact emulation or unix seman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kernel or user space implem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cess model - one client per process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strategy is needed fo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inter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ttribute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character se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 mapp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Security Issue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 CIFS server must be paranoi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ll file operations done as non-roo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anity check all oper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nix and CIFS security models are very differ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assword synchronisation probl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r/share/server security - none fit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What the spec doesn’t tell yo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rom the spec you may not realise th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rowsing and IPC calls are essential, but currently undocumen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s used in very unusual w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ate handling is unusu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Many applications assu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S/Windows directory hand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system loop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filenames are case insensitiv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Starting from scratch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rite both a client and a serv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you need a client you can modif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test unusual situ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eed to probe existing server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e an extensible sniff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add to the sniffer as you lear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on’t assume existing sniffers are corr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More problem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here are lots more thorny issues to deal wi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locking in unix is a me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hare modes don’t exi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directory/file permissions are totally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text format is differ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P privilaged ports must be observ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firewal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problem with name status quer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695160" y="266760"/>
            <a:ext cx="7772400" cy="110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4400" spc="-1" strike="noStrike">
                <a:solidFill>
                  <a:srgbClr val="ffcc00"/>
                </a:solidFill>
                <a:latin typeface="Times New Roman"/>
                <a:ea typeface="Times New Roman"/>
              </a:rPr>
              <a:t>CIFS for Unix to Unix?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349280" y="1676520"/>
            <a:ext cx="7728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s CIFS viable for Unix to Unix connections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not really, at least not y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61"/>
              </a:spcBef>
              <a:buClr>
                <a:srgbClr val="ff00ff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What is needed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oft links, unix attributes, uids, gid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node numbers, device fil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better authenti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79"/>
              </a:spcBef>
              <a:buClr>
                <a:srgbClr val="ffffff"/>
              </a:buClr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implementations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Andrew Tridgell</dc:creator>
  <dc:description>DRAFT ONLY - V3</dc:description>
  <dc:language>en-US</dc:language>
  <cp:lastModifiedBy>Susan</cp:lastModifiedBy>
  <cp:revision>0</cp:revision>
  <dc:subject/>
  <dc:title>SMB on Unix</dc:title>
</cp:coreProperties>
</file>