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D4354A82-37AA-424D-83FF-368EC0DAE2A4}"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077CD5ED-C12B-4885-9FE5-713089FAB22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D9319BE-FA2D-4594-8B22-683ED056C07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1D6E543-6609-4DBB-B0CD-A388F4BBE75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FA163251-1BDC-4883-9943-375449C0E787}" type="datetime">
              <a:rPr b="0" lang="en-US" sz="1100" spc="-1" strike="noStrike">
                <a:solidFill>
                  <a:srgbClr val="064308"/>
                </a:solidFill>
                <a:latin typeface="Arial"/>
              </a:rPr>
              <a:t>07/30/26</a:t>
            </a:fld>
            <a:r>
              <a:rPr b="0" lang="en-US" sz="1100" spc="-1" strike="noStrike">
                <a:solidFill>
                  <a:srgbClr val="064308"/>
                </a:solidFill>
                <a:latin typeface="Arial"/>
              </a:rPr>
              <a:t>, </a:t>
            </a:r>
            <a:r>
              <a:rPr b="0" lang="en-US" sz="1100" spc="-1" strike="noStrike">
                <a:solidFill>
                  <a:srgbClr val="064308"/>
                </a:solidFill>
                <a:latin typeface="Arial"/>
              </a:rPr>
              <a:t>Slide </a:t>
            </a:r>
            <a:fld id="{52D272A7-9EA8-42C9-BE7C-ACBF07FE5F9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97698E5-2D17-4F09-B3D9-7AA5FBB7662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