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17A3-F6CB-4E74-A95F-751234D64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0AA0-4AD1-432E-B51A-B6B9DA758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875E-B4E5-4D9E-9883-2D0DDCC43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98AD-9169-421E-B041-E010FEE24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1710-65BB-456E-A258-7AD9EE53D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75C3-1445-4D13-AA57-DD21BAEC9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94E1-0539-4BC6-A905-079D45F68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AD89-A904-4B43-855C-3F05B20FB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F847-1717-48DF-A645-8EE5A4275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326D-15E1-44E9-958F-67E15C61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5EA3-6CD1-4502-8BC7-620F5799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EFBB-85CB-4BD5-8B95-4729F974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CCC76-C8BD-42B7-AEE5-49E2F3E88C6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eagle.to/" TargetMode="Externa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40" y="999720"/>
            <a:ext cx="66042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Maturation and Ev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240" y="1834920"/>
            <a:ext cx="6604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7th Annual Tcl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till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T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rgument expansion syntax (i.e. {*}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namespace support (except the global namespac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[binary], [fblocked], [fileevent], [format], [glob], [history], [memory], [scan], or [trace] comm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[open], command pipelines and serial ports are not suppo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[exec], Unix-style input/output redirection and command pipelines are not suppo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Safe B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[registry] or [dde] comm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 namespace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enough time in the original schedu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makes command and variable resolution far more comple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ut, I really need namespace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steps have already been tak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 for custom resolvers has already been added via the “default resolver” and the managed resolver AP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 compil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enough time in the original schedu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w performance was not a primary conside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ng dynamic and correct is more important than being fa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ng running scripts can be evaluated (and canceled as necessary) in secondary threa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LR just-in-time compiler is already pretty goo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rformance Problem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be much slower than native Tcl, even for the simplest oper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 time, targeted optimizations have been added for all critical code path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low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sing strings into lis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ilding lists from stri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ression evaluation, primarily string-to-type con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ther performance issues are insignificant compared to these thre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wo years ago, at a conference far far away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was presented and there was much rejoic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it was not all double-rainbows and flying unicor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Text Placeholder 2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al Problems, Part 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erpreter class is far too lar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eak into multiple fi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entity management to a new compon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shared state and its management to a new compon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“helper” functionality to other classes unless they need access to interpreter intern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nteractive loop code is too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jor Compon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Text Placeholder 2" descr=""/>
          <p:cNvPicPr/>
          <p:nvPr/>
        </p:nvPicPr>
        <p:blipFill>
          <a:blip r:embed="rId2"/>
          <a:stretch/>
        </p:blipFill>
        <p:spPr>
          <a:xfrm>
            <a:off x="693720" y="1076400"/>
            <a:ext cx="783288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al Problems, Part 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ngine is too recursi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would potentially be a lot of benefits from something like N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mponents are too tightly coupled and have some circular dependenc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ono Sag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o support was added prior to the conference last ye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has never been perfect because of serious bugs in the Mono platfor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should build and run correctly on recent versions of Mono (e.g. 2.6.7 and 2.8) for Windows and Uni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can I help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st in your environments and report any issues you fi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ibute to the documentation and/or the test sui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feedback, suggest features, or fla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s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, reall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iginally designed for the purpose of providing a first-class library for scripting applications written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other considerations were secondary, including performance and full Tcl compatibil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Eagle is no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based on the Microsoft Dynamic Language Runtime (DLR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intended for stand-alone application develop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likely to ever have a compil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a replacement for Tcl or Jac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 hate Microsoft, .NET, C#, etc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k, but you like Tcl; otherwise, you wouldn’t be he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good for the Tcl community because it exposes Tcl to an audience that would otherwise have little or no exposure to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f 100% Tcl compatibility is required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cluded wrapper can be used to access native Tcl from managed co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lly discussed in the Eagle 2009 presentation, available for downlo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the innovati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application is always right” attitu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IHost interface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 interpreter, multiple threads, safe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universal option parser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eamless integration with CLR objec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ll support for overload resolution, properties, methods, fields, and ev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built-in debugging suppor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ple development / deployment model (i.e. the “add a reference and go experience”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mpatibility, performance, and m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still several major Tcl 8.4 features miss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verall performance is still several orders of magnitude slower than Tc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’m still the only person working on the proje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10-10-14T18:34:37Z</dcterms:modified>
  <cp:revision>582</cp:revision>
  <dc:subject>Eagle</dc:subject>
  <dc:title>Eagle: Maturation and Evolution</dc:title>
</cp:coreProperties>
</file>