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BDAD-DB56-46B6-B9A2-A60AAA531FD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C07613F9-239B-489B-852D-91602C7F36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6E57A-BADB-4A3F-9AE6-216399764E35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6415EC-FBF4-49EF-A500-59EF97228C82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80E13-1FC1-4238-AE29-F58DAF837F9B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35F6D3-6C35-4333-850A-660291DC73A4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14E04-FE51-48DC-B1A8-FEDE739FC80B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F028D8-75DE-4C41-873B-5F765992D653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BD3DC-2DA9-43C3-ADB7-0393AD4C3B37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A586F-7855-476C-9971-F5E8D971B3B1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E0AFB1-75F9-4D4B-BD32-5C581EA2BAE8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64B3D-0DA9-42E3-B907-C43299447BD1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6E780F-59C0-4699-831C-9889B3B31390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2B7A4-0CC4-4792-AAC8-88625BD2613D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45A86B-3299-4EA3-AF82-12574ADC264F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531BEA-52B5-4780-9D1A-E63DD7DC5F76}" type="datetime1">
              <a:rPr lang="en-US"/>
              <a:t>07/30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A84FBE-F3DE-4884-ACB5-530D40E6220E}" type="datetime1">
              <a:rPr lang="en-US"/>
              <a:t>07/30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