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ADA97-592B-4469-8F82-ED2AE1FF89EA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427B1-6E2C-42A3-8EDC-EACCA13F6D94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96FF6-7F3D-4290-9E7F-8D2E82ADE2FC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0C52A-F2C3-41B3-8100-98FEFCD48375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B5C60-C04D-4895-8151-0C8CD700704E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1E704-DAA0-4EBF-B935-F2B3AE51C1E7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3442A-86DA-4118-B363-0423CF2551FE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27715-5B93-4193-8A6F-E14559987887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816E3-F692-48EC-9742-6745ABD74A9C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8789C-D69E-43C3-B0F8-8C6CBC003E8D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E368A-3BFF-490C-A6CF-912864209A55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7300F-9ADA-4FB7-A54C-F51386B3D477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D807E-BA59-41DE-AA71-6DFA51DB017B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6FB8C-6903-451E-A68D-4A22235208E3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1AF1-E820-427A-B646-D4877D964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3782-6576-4DDB-B8A8-5F07A4B0D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95A9-812D-4AD8-86F5-05220485A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A0DB-6247-4DD9-AB69-05628D712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877E-03DC-4D66-8E49-FDC3A5879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6EFD-E6F5-41AF-B75B-4013DFBA6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1D59-625F-40EF-9C16-B8C4A07D9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5CD6-A5DC-41DD-A8AA-59ADF5E4F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64A1-F730-4AAE-B5E4-A8BA67B98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321C-FBEF-47A2-9A0F-96AE1B4F9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F428-22AC-4989-AE18-5CE93A32E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09B8-5F19-48D2-BA81-DF03B3409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A358F-FB12-4FA8-8654-07F683FC5335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tk@dacsystem.pl" TargetMode="External"/><Relationship Id="rId2" Type="http://schemas.openxmlformats.org/officeDocument/2006/relationships/hyperlink" Target="http://tkosiak.blogspot.com/" TargetMode="External"/><Relationship Id="rId3" Type="http://schemas.openxmlformats.org/officeDocument/2006/relationships/hyperlink" Target="http://www.dacsystem.pl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tcl.org/2008/Download/Saturday/EuroTcl2008-Steffen_GSoC.pdf" TargetMode="External"/><Relationship Id="rId2" Type="http://schemas.openxmlformats.org/officeDocument/2006/relationships/hyperlink" Target="http://www.eurotcl.org/2008/Download/Saturday/EuroTcl2008-Steffen_GSoC.pdf" TargetMode="External"/><Relationship Id="rId3" Type="http://schemas.openxmlformats.org/officeDocument/2006/relationships/hyperlink" Target="http://www.eurotcl.org/2008/Download/Saturday/EuroTcl2008-Steffen_GSoC.pdf" TargetMode="External"/><Relationship Id="rId4" Type="http://schemas.openxmlformats.org/officeDocument/2006/relationships/hyperlink" Target="http://www.eurotcl.org/2008/Download/Saturday/EuroTcl2008-Steffen_GSoC.pdf" TargetMode="External"/><Relationship Id="rId5" Type="http://schemas.openxmlformats.org/officeDocument/2006/relationships/hyperlink" Target="http://www.eurotcl.org/2008/Download/Saturday/EuroTcl2008-Wirl_GSoC.pdf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mailto:blicharski@gmail.com" TargetMode="External"/><Relationship Id="rId2" Type="http://schemas.openxmlformats.org/officeDocument/2006/relationships/hyperlink" Target="http://www.assembla.com/wiki/show/tktopdf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mailto:dah4ns@gmail.com" TargetMode="External"/><Relationship Id="rId2" Type="http://schemas.openxmlformats.org/officeDocument/2006/relationships/hyperlink" Target="http://trac.assembla.com/gsoc2008-tcl_dynamic_libraries/wiki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ania.pawelczyk@gmail.com" TargetMode="External"/><Relationship Id="rId2" Type="http://schemas.openxmlformats.org/officeDocument/2006/relationships/hyperlink" Target="http://www.assembla.com/wiki/show/TkTests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26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cl/Tk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Google Summer of Code 200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8000" y="3886200"/>
            <a:ext cx="7304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masz Kosiak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&lt;tkosiak@gmail.com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tkosiak.blogspo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dacsystem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Tcl 2008 Con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ct 23, Manassas VA, U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masz Kosiak’s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kground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 (tkosiak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king with Tcl from 1999 (first AOLserver, now mosty Tcl serv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ner, manager, software architect/developer at DAC System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- DAC System is 3 years old company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-10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eople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ing dedicated software (in Tcl and AJAX) for telemetry and doing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th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ploy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Gdańsk Bay area in northern Poland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TriCity=Trójmiasto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– ther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ls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Tcl users:  zjednoczenie.com (AOLserver based websites ex. mtv.eu), Polska.pl/Poland.pl (national portal),  Intel Technology Poland (test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in South Poland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rakow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: Wojciech Kocjan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http://www.kocjan.org/about-me.html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NT Industrial Software Systems (general SCADA/HMI with Tk and/or AJAX UI), www.onet.pl (AOLserv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cl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SoC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 2008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tiv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 hir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duates from Technical University of Gdańsk after they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prove themselvs 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ship during sum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SoC provided funding and mentor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shi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work on projects which d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dn’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nefit DAC System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ing work is my daily job  – I’m quite good at making things hap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cl GSoC 2008 Im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2876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s a key but it doesn’t always work out of the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need reasonable projects with committed men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can we expect from a student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 programming, some motivation and no mor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student expectations (except Google hype)? Doable project and mentor devotion first, money sec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ll we bother at all with Tcl 2009 GSo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MH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SoC is important way to bring in new Tcl developer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ommercial Tcl usage at Tcl based companies is another o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Contact</a:t>
            </a:r>
            <a:br>
              <a:rPr sz="36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omasz Kosiak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e-mail: tk@dacsystem.pl</a:t>
            </a:r>
            <a:br>
              <a:rPr sz="2800"/>
            </a:b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http://tkosiak.blogspot.com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cl/Tk GSoC 2008 </a:t>
            </a:r>
            <a:r>
              <a:rPr b="1" i="1" lang="pl-PL" sz="4000" spc="-1" strike="noStrike">
                <a:solidFill>
                  <a:srgbClr val="000000"/>
                </a:solidFill>
                <a:latin typeface="Arial"/>
              </a:rPr>
              <a:t>(url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iki.tcl.tk/208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code.google.com/p/google-summer-of-code-2008-tcl/downloads/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groups.google.com/group/comp.lang.tcl/browse_thread/thread/72b3e6626aa20095/50174260499805b3?hl=pl&amp;lnk=gst&amp;q=Tcl+GSoC+Projects#50174260499805b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eurotcl.org/2008/Download/Saturday/EuroTcl2008-Steffen_GSoC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eurotcl.org/2008/Download/Saturday/EuroTcl2008-Wirl_GSoC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cl/Tk GSoC 2008</a:t>
            </a:r>
            <a:r>
              <a:rPr b="1" i="1" lang="pl-PL" sz="4000" spc="-1" strike="noStrike">
                <a:solidFill>
                  <a:srgbClr val="000000"/>
                </a:solidFill>
                <a:latin typeface="Arial"/>
              </a:rPr>
              <a:t> (tkosiak)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c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ginally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h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slots, finally 9 slots after we advertised as umbrella organization for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cl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k,  AOLserver, OpenACS/.dotLRN, XOTcl, aMSN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forgot about Expect) and Tk being part of Perl &amp; Python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 slots =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9 x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500 USD for students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+ 9 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500 USD for mentors (Tcl Associ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MHO we h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very capable students from Poland (3 from Gdańsk and 1 from Warsa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Tcl/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k 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inting 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p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t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 (TkPrint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Krzysztof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rzysiek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licharski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blicharski@gmail.com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lif Fly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ssembla.com/wiki/show/tkto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Tcl implementation / C source stud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spects widgets graphical properties and gathers it nn di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es PDF from information in those di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les many widgets including canvas but not text wi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tion how widgets draws itself is duplicated in tktopdf tcl source code – derived from studies on C implemen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it support Tile? (probably no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ight way is to 1) provide more retrospection about how widgets draws itselves  2) start with a TIP what is really need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ading shared libraries from memory (and/or Tcl channels) (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niel Hans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dah4ns@gmail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reas Kup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 </a:t>
            </a:r>
            <a:r>
              <a:rPr b="1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trac.assembla.com/gsoc2008-tcl_dynamic_libraries/wik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al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able loading shared libraries from starkits without putting them in temporary fi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lored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ting RTLD library (part of FreeBSD dynamic linker) to Linux and trying to make it work with Linux dynamic lin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RTLD – its license is compatible with Tcl so it could be bund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TLD was extracted from FreeBSD sources and ported to Lin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c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oad simple dynamic shared libra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cannot load libtcl85.so from memory (fix could be simple or quite complex – no diagnos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ading shared libraries from memory (and/or Tcl channels) 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required high degree expertise on shared libraries linker internals – not already available within Tcl community so student mosty worked on his own – when he got stuck we couldn’t really help him without doing work for him (and it wasn’t exercis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KU: On OS X we have OS support, making it basically 100% an integration thing – complexity 99% in Tcl, 1% in lin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KU: On other platform complexity was not in the integration, but in the load/link parts themselves, maybe 1% integration, 99% linker intern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spec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not create/bundle own linker (based on RTLD) but help to put memory-load feature into native linkers on supported plat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some workarounds to use native linkers (put shared library in /dev/shm on BSD, FUSE on Linux, Windows ???)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pdate Tk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est System (TkTests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Ania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welczyk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nia.pawelczyk@gmail.com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tor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Jeff Hobb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Url: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ssembla.com/wiki/show/TkTe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nvert syntax from 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test v1 to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test v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ination of why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any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s fai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ce from the system's settings – revisiting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vidual test case independence – adding setup/clean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pdate Tk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est System (TkTests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2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 1 is formally accompli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s 2..4 just scratched – see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www.assembla.com/flows/flow/a_KwcurkGr3ztnab7jnrA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5 out 110 test files is lastly touched by ania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</a:t>
            </a:r>
            <a:br>
              <a:rPr sz="2400"/>
            </a:b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tktoolkit.cvs.sourceforge.net/viewvc/tktoolkit/tk/tests/?sortby=author#dirli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 new to Tl/Tk cannot become tktest expert without extensive help from men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be 50% of effort was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poi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Tile tests touched – project was not called TtkTests (intended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cl Bindings to DTrace (TclDTrac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Remigiusz (Jan Andrzej) Modrzejewski &lt;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lrem@go2.p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  Poland,Gdań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niel Steffen (Switzerland, Zuric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dev.lrem.net/tcldtrac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Ttac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dynamic tracing framework from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st successful project from Polish students (both mentor and student are very happy with 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dent had all the required skills – what was indeed needed?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) C programming, b) good system administration skill which allowed him to create work environment OpenSolaris, c) kernel understanding (he writes for Linux Journal about Linux kerne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ntor was very helpful – helped to design API, tested on unavailable platform (Mac OS X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isturbed systematic communication – almost the same time zone (Poland – Switzerlan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19:29:41Z</dcterms:created>
  <dc:creator>Tomasz Kosiak</dc:creator>
  <dc:description/>
  <dc:language>en-US</dc:language>
  <cp:lastModifiedBy>tkosiak</cp:lastModifiedBy>
  <dcterms:modified xsi:type="dcterms:W3CDTF">2008-10-23T06:36:07Z</dcterms:modified>
  <cp:revision>19</cp:revision>
  <dc:subject/>
  <dc:title>Tcl/Tk Mature but Evolving Dynamic Language</dc:title>
</cp:coreProperties>
</file>