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991F-D377-44C8-9EB9-B8E26CE76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9562-C941-48DE-9272-102863B4F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27BA-952F-4B7E-95D3-789F8AD33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27FC-88AD-4E75-BC28-0FA49D18E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3AC2-3CD0-4A3F-8C30-A72197562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EFFF-3D5F-4A09-866E-2AF6E8FE5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A23E-205F-4C71-BB59-CDD82869E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E02C-6663-4D6D-B02B-C03D59CF2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E9DD-2591-408C-A03E-081F469B0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9830-1CC8-4F35-A62E-3F02E80F3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ED15-695C-44FC-94FB-E75D36F1D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B0E0-62A5-4BB4-9C44-A1E2296BD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BE623-8EB6-4E39-B54B-71137C3F28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with Tc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 Nijtm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oTcl 2008, june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s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set EQP {L {U1 5} {U2 1000}} \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[L {F  3.5} {B 45 46 47}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:secs::set EQP {U2 5 100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fore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foreach v {L {U1 5} {U1 6}} {\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foreach v {U1 5 6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quipment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array EQ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rray set EQP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3 45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ftware {L {A CONCP1} {A 4.433}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c EQPconnect {} …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c EQPS&lt;num&gt;F&lt;num&gt; {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w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.sourceforge.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me (www.hume.co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lib (japanese) 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it started: automatic te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 message protocol    host &lt;-&gt; equi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 storage in arr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CS protoc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miconductor Equipment Communications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ssages over RS-232 or TCP/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-byte header followed by 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est/Rep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message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2666880"/>
            <a:ext cx="64771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             dev     cmd     sub                id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668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1972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5780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3352680"/>
            <a:ext cx="65530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………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47920" y="4191120"/>
            <a:ext cx="3886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d odd:    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d even:   reply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bit:  reply expected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mess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: bin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: ASC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1, U2, U4, U8, I1, I2, I4, I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4, F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362320" y="5410080"/>
            <a:ext cx="38098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mt   len      ……………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5410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9880" y="5410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2819520"/>
            <a:ext cx="72388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0 1 2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{this is a string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 {B 0 1 2 3} {A {this is a string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2 100 2000 3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his is a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1 1000 2000  -1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I2 1000 2000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S6F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c S6F5 {sock dev cmd sub msg id}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:secs::write $sock $dev [expr {$cmd+1}] $sub [list B 0] $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wr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 $msg $sub cb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 cb1 {sock dev cmd msg sub id}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cmd1 …..;set msg1 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1 $msg1 $sub $cb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 cb2 {sock dev cmd msg sub id}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cmd2 …..;set msg2 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2 $msg2 $sub $cb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19810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in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init host port array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up conn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CIS</cp:lastModifiedBy>
  <dcterms:modified xsi:type="dcterms:W3CDTF">2008-06-07T05:51:42Z</dcterms:modified>
  <cp:revision>6</cp:revision>
  <dc:subject/>
  <dc:title>PowerPoint Presentation</dc:title>
</cp:coreProperties>
</file>