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27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5.png" ContentType="image/png"/>
  <Override PartName="/ppt/media/image2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732588" cy="98567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10004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6560" y="160020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52352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10004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6560" y="374976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501920" y="-155880"/>
            <a:ext cx="76197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428440" y="374976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52352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428440" y="160020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523520" y="374976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text%20page_new" descr=""/>
          <p:cNvPicPr/>
          <p:nvPr/>
        </p:nvPicPr>
        <p:blipFill>
          <a:blip r:embed="rId2"/>
          <a:stretch/>
        </p:blipFill>
        <p:spPr>
          <a:xfrm>
            <a:off x="-9360" y="-7920"/>
            <a:ext cx="9162720" cy="68738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01920" y="-155880"/>
            <a:ext cx="76197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80002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523520" y="160020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Click to edit the outline text format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con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a8000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Third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a80002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our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Fif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5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ix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6" marL="2057400" indent="-228600">
              <a:spcBef>
                <a:spcPts val="451"/>
              </a:spcBef>
              <a:buClr>
                <a:srgbClr val="a80002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a80002"/>
                </a:solidFill>
                <a:latin typeface="Arial"/>
              </a:rPr>
              <a:t>Seventh Outline Leve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8000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8000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53800" y="6335640"/>
            <a:ext cx="892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800" spc="-1" strike="noStrike">
                <a:solidFill>
                  <a:srgbClr val="919191"/>
                </a:solidFill>
                <a:latin typeface="Arial"/>
              </a:rPr>
              <a:t>Xerion</a:t>
            </a:r>
            <a:endParaRPr b="0" lang="en-US" sz="18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498520" y="6465960"/>
            <a:ext cx="1040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3B2C3-94F8-40EA-B08E-0A3810E8648D}" type="slidenum">
              <a:rPr b="1" lang="de-DE" sz="14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242280" cy="69454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2100960" y="3922560"/>
            <a:ext cx="4941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Xerion Pharmaceuticals AG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Presentation</a:t>
            </a: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May 2003</a:t>
            </a:r>
            <a:endParaRPr b="0" lang="en-US" sz="28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a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0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0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9" name="classic3" descr=""/>
          <p:cNvPicPr/>
          <p:nvPr/>
        </p:nvPicPr>
        <p:blipFill>
          <a:blip r:embed="rId1"/>
          <a:stretch/>
        </p:blipFill>
        <p:spPr>
          <a:xfrm>
            <a:off x="1490760" y="1789200"/>
            <a:ext cx="765324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Select column and click next tabl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1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1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17" name="classic4" descr=""/>
          <p:cNvPicPr/>
          <p:nvPr/>
        </p:nvPicPr>
        <p:blipFill>
          <a:blip r:embed="rId1"/>
          <a:stretch/>
        </p:blipFill>
        <p:spPr>
          <a:xfrm>
            <a:off x="1465200" y="1684440"/>
            <a:ext cx="7678800" cy="42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– Doubleclick other tables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2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25" name="classic5" descr=""/>
          <p:cNvPicPr/>
          <p:nvPr/>
        </p:nvPicPr>
        <p:blipFill>
          <a:blip r:embed="rId1"/>
          <a:stretch/>
        </p:blipFill>
        <p:spPr>
          <a:xfrm>
            <a:off x="1504800" y="1925640"/>
            <a:ext cx="76392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finish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33" name="classic6" descr=""/>
          <p:cNvPicPr/>
          <p:nvPr/>
        </p:nvPicPr>
        <p:blipFill>
          <a:blip r:embed="rId1"/>
          <a:stretch/>
        </p:blipFill>
        <p:spPr>
          <a:xfrm>
            <a:off x="1530360" y="1887480"/>
            <a:ext cx="7613640" cy="418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dit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edit mode gives you the possibility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Inser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dit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Delete datase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39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1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oubleclick a table to view its conten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4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49" name="classic_edit1" descr=""/>
          <p:cNvPicPr/>
          <p:nvPr/>
        </p:nvPicPr>
        <p:blipFill>
          <a:blip r:embed="rId1"/>
          <a:stretch/>
        </p:blipFill>
        <p:spPr>
          <a:xfrm>
            <a:off x="2195640" y="168588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lick “ADD ROW” to insert a dataset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5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57" name="classic_edit2" descr=""/>
          <p:cNvPicPr/>
          <p:nvPr/>
        </p:nvPicPr>
        <p:blipFill>
          <a:blip r:embed="rId1"/>
          <a:stretch/>
        </p:blipFill>
        <p:spPr>
          <a:xfrm>
            <a:off x="1698480" y="1901880"/>
            <a:ext cx="7085160" cy="25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New dataset add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6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6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65" name="classic_edit4" descr=""/>
          <p:cNvPicPr/>
          <p:nvPr/>
        </p:nvPicPr>
        <p:blipFill>
          <a:blip r:embed="rId1"/>
          <a:stretch/>
        </p:blipFill>
        <p:spPr>
          <a:xfrm>
            <a:off x="2259000" y="155592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The select mod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Switching to “select mode” enables you to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xecute queries with “where clause” on selected colum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Select desired column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7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1" name="classic_select2" descr=""/>
          <p:cNvPicPr/>
          <p:nvPr/>
        </p:nvPicPr>
        <p:blipFill>
          <a:blip r:embed="rId1"/>
          <a:stretch/>
        </p:blipFill>
        <p:spPr>
          <a:xfrm>
            <a:off x="1465200" y="163188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295280" y="152712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Founded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August 1998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usiness Segment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Target Validation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rug Development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Bioinformatics Task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1st: In Silico Analyse of Biological Dat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2nd: Development of a Validated Target Database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Locations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artinsried - Germany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Cambridge, MA – USA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Email: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de-DE" sz="1600" spc="-1" strike="noStrike">
                <a:solidFill>
                  <a:srgbClr val="a80002"/>
                </a:solidFill>
                <a:latin typeface="Arial"/>
              </a:rPr>
              <a:t>mfickert@xerion-pharma.com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80002"/>
                </a:solidFill>
                <a:latin typeface="Arial"/>
              </a:rPr>
              <a:t>The Company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14280" y="2014560"/>
            <a:ext cx="952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Examples 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87280" y="1609560"/>
            <a:ext cx="1144440" cy="179280"/>
            <a:chOff x="287280" y="1609560"/>
            <a:chExt cx="1144440" cy="179280"/>
          </a:xfrm>
        </p:grpSpPr>
        <p:sp>
          <p:nvSpPr>
            <p:cNvPr id="48" name=""/>
            <p:cNvSpPr/>
            <p:nvPr/>
          </p:nvSpPr>
          <p:spPr>
            <a:xfrm>
              <a:off x="287280" y="1771920"/>
              <a:ext cx="114444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88720" y="1609560"/>
              <a:ext cx="0" cy="17928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2703600"/>
            <a:ext cx="1409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8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89" name="classic_select3" descr=""/>
          <p:cNvPicPr/>
          <p:nvPr/>
        </p:nvPicPr>
        <p:blipFill>
          <a:blip r:embed="rId1"/>
          <a:stretch/>
        </p:blipFill>
        <p:spPr>
          <a:xfrm>
            <a:off x="2001960" y="182556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Using “where clause”, choose colum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19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97" name="where1" descr=""/>
          <p:cNvPicPr/>
          <p:nvPr/>
        </p:nvPicPr>
        <p:blipFill>
          <a:blip r:embed="rId1"/>
          <a:stretch/>
        </p:blipFill>
        <p:spPr>
          <a:xfrm>
            <a:off x="1558800" y="1125360"/>
            <a:ext cx="7585200" cy="52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operator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0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05" name="classic_select_where2" descr=""/>
          <p:cNvPicPr/>
          <p:nvPr/>
        </p:nvPicPr>
        <p:blipFill>
          <a:blip r:embed="rId1"/>
          <a:stretch/>
        </p:blipFill>
        <p:spPr>
          <a:xfrm>
            <a:off x="253512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hoose conditio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13" name="where2" descr=""/>
          <p:cNvPicPr/>
          <p:nvPr/>
        </p:nvPicPr>
        <p:blipFill>
          <a:blip r:embed="rId1"/>
          <a:stretch/>
        </p:blipFill>
        <p:spPr>
          <a:xfrm>
            <a:off x="1517760" y="1122480"/>
            <a:ext cx="7626240" cy="531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1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1" name="classic_select_where4" descr=""/>
          <p:cNvPicPr/>
          <p:nvPr/>
        </p:nvPicPr>
        <p:blipFill>
          <a:blip r:embed="rId1"/>
          <a:stretch/>
        </p:blipFill>
        <p:spPr>
          <a:xfrm>
            <a:off x="2316240" y="952560"/>
            <a:ext cx="520704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Query result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2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2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29" name="classic_select_where5" descr=""/>
          <p:cNvPicPr/>
          <p:nvPr/>
        </p:nvPicPr>
        <p:blipFill>
          <a:blip r:embed="rId1"/>
          <a:stretch/>
        </p:blipFill>
        <p:spPr>
          <a:xfrm>
            <a:off x="2027160" y="1903320"/>
            <a:ext cx="622296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2 – User defined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different types were defin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DDRESS_TY -&gt; street, city, zip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PERSON_TY -&gt; firstname, lastname, addres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ne table was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EMPLOYEE (ID, person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3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4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4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45" name="nested_types1" descr=""/>
          <p:cNvPicPr/>
          <p:nvPr/>
        </p:nvPicPr>
        <p:blipFill>
          <a:blip r:embed="rId1"/>
          <a:stretch/>
        </p:blipFill>
        <p:spPr>
          <a:xfrm>
            <a:off x="1452600" y="1612800"/>
            <a:ext cx="7691400" cy="422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4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5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53" name="nested_types2" descr=""/>
          <p:cNvPicPr/>
          <p:nvPr/>
        </p:nvPicPr>
        <p:blipFill>
          <a:blip r:embed="rId1"/>
          <a:stretch/>
        </p:blipFill>
        <p:spPr>
          <a:xfrm>
            <a:off x="1787400" y="1916280"/>
            <a:ext cx="6934320" cy="26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All elements are shown…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5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61" name="nested_types3" descr=""/>
          <p:cNvPicPr/>
          <p:nvPr/>
        </p:nvPicPr>
        <p:blipFill>
          <a:blip r:embed="rId1"/>
          <a:stretch/>
        </p:blipFill>
        <p:spPr>
          <a:xfrm>
            <a:off x="1463760" y="2786040"/>
            <a:ext cx="7680240" cy="17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WHY ORASTATE?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cle Structure Tool And Table Editor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raphical representation of database and its relation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presentation has to be build on ones own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No bulky insert and select statement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57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3 – REF’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wo tables were created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ANIMAL (object table) -&gt; breed, name, birthdate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(some datasets were inserte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KEEPER -&gt; name, ref of animal_ty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66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67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69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74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77" name="ref1" descr=""/>
          <p:cNvPicPr/>
          <p:nvPr/>
        </p:nvPicPr>
        <p:blipFill>
          <a:blip r:embed="rId1"/>
          <a:stretch/>
        </p:blipFill>
        <p:spPr>
          <a:xfrm>
            <a:off x="1490760" y="2109960"/>
            <a:ext cx="7653240" cy="42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Insert and choose data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82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84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85" name="ref2" descr=""/>
          <p:cNvPicPr/>
          <p:nvPr/>
        </p:nvPicPr>
        <p:blipFill>
          <a:blip r:embed="rId1"/>
          <a:stretch/>
        </p:blipFill>
        <p:spPr>
          <a:xfrm>
            <a:off x="1477800" y="1197000"/>
            <a:ext cx="7666200" cy="1695600"/>
          </a:xfrm>
          <a:prstGeom prst="rect">
            <a:avLst/>
          </a:prstGeom>
          <a:ln w="0">
            <a:noFill/>
          </a:ln>
        </p:spPr>
      </p:pic>
      <p:pic>
        <p:nvPicPr>
          <p:cNvPr id="286" name="ref3" descr=""/>
          <p:cNvPicPr/>
          <p:nvPr/>
        </p:nvPicPr>
        <p:blipFill>
          <a:blip r:embed="rId2"/>
          <a:stretch/>
        </p:blipFill>
        <p:spPr>
          <a:xfrm>
            <a:off x="2014560" y="3462480"/>
            <a:ext cx="6222960" cy="29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Dataset in database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290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291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294" name="ref4" descr=""/>
          <p:cNvPicPr/>
          <p:nvPr/>
        </p:nvPicPr>
        <p:blipFill>
          <a:blip r:embed="rId1"/>
          <a:stretch/>
        </p:blipFill>
        <p:spPr>
          <a:xfrm>
            <a:off x="1503360" y="1424160"/>
            <a:ext cx="7640640" cy="1688760"/>
          </a:xfrm>
          <a:prstGeom prst="rect">
            <a:avLst/>
          </a:prstGeom>
          <a:ln w="0">
            <a:noFill/>
          </a:ln>
        </p:spPr>
      </p:pic>
      <p:pic>
        <p:nvPicPr>
          <p:cNvPr id="295" name="ref5" descr=""/>
          <p:cNvPicPr/>
          <p:nvPr/>
        </p:nvPicPr>
        <p:blipFill>
          <a:blip r:embed="rId2"/>
          <a:stretch/>
        </p:blipFill>
        <p:spPr>
          <a:xfrm>
            <a:off x="1500120" y="3719520"/>
            <a:ext cx="7643880" cy="26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6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297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298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01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02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04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07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8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09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0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1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2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13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14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About implementation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Packages used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523520" y="1723680"/>
            <a:ext cx="7620120" cy="39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[incr] 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Two Classes (table and column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Oratcl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Version 3.1 (one year ago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lvl="1" marL="762120" indent="-304920">
              <a:spcBef>
                <a:spcPts val="400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a80002"/>
                </a:solidFill>
                <a:latin typeface="Arial"/>
              </a:rPr>
              <a:t>Unable to use later versions (no downwards compatibility)</a:t>
            </a:r>
            <a:endParaRPr b="1" lang="en-US" sz="16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Mclistbox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Recursive functions for splitting nested datatypes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0" name=""/>
          <p:cNvGrpSpPr/>
          <p:nvPr/>
        </p:nvGrpSpPr>
        <p:grpSpPr>
          <a:xfrm>
            <a:off x="157320" y="2575080"/>
            <a:ext cx="1018800" cy="178920"/>
            <a:chOff x="157320" y="2575080"/>
            <a:chExt cx="1018800" cy="178920"/>
          </a:xfrm>
        </p:grpSpPr>
        <p:sp>
          <p:nvSpPr>
            <p:cNvPr id="321" name=""/>
            <p:cNvSpPr/>
            <p:nvPr/>
          </p:nvSpPr>
          <p:spPr>
            <a:xfrm>
              <a:off x="157320" y="273708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8760" y="257508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23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4" name="divider%20page" descr=""/>
          <p:cNvPicPr/>
          <p:nvPr/>
        </p:nvPicPr>
        <p:blipFill>
          <a:blip r:embed="rId1"/>
          <a:stretch/>
        </p:blipFill>
        <p:spPr>
          <a:xfrm>
            <a:off x="0" y="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25" name="divider%20page" descr=""/>
          <p:cNvPicPr/>
          <p:nvPr/>
        </p:nvPicPr>
        <p:blipFill>
          <a:blip r:embed="rId2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26" name=""/>
          <p:cNvSpPr/>
          <p:nvPr/>
        </p:nvSpPr>
        <p:spPr>
          <a:xfrm>
            <a:off x="63360" y="1481040"/>
            <a:ext cx="131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Company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74600" y="1898640"/>
            <a:ext cx="1201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Target Valida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96840" y="2494080"/>
            <a:ext cx="1279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Antibody Lead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329" name=""/>
          <p:cNvGrpSpPr/>
          <p:nvPr/>
        </p:nvGrpSpPr>
        <p:grpSpPr>
          <a:xfrm>
            <a:off x="476280" y="1622520"/>
            <a:ext cx="955800" cy="149040"/>
            <a:chOff x="476280" y="1622520"/>
            <a:chExt cx="955800" cy="149040"/>
          </a:xfrm>
        </p:grpSpPr>
        <p:sp>
          <p:nvSpPr>
            <p:cNvPr id="330" name=""/>
            <p:cNvSpPr/>
            <p:nvPr/>
          </p:nvSpPr>
          <p:spPr>
            <a:xfrm>
              <a:off x="476280" y="1757520"/>
              <a:ext cx="955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477720" y="1622520"/>
              <a:ext cx="0" cy="14904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332" name=""/>
          <p:cNvSpPr/>
          <p:nvPr/>
        </p:nvSpPr>
        <p:spPr>
          <a:xfrm>
            <a:off x="466560" y="306216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Business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466560" y="3468600"/>
            <a:ext cx="90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Finance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1523880" y="0"/>
            <a:ext cx="7620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200" spc="-1" strike="noStrike">
                <a:solidFill>
                  <a:srgbClr val="a50021"/>
                </a:solidFill>
                <a:latin typeface="Arial"/>
              </a:rPr>
              <a:t>Xerion extends its value chain  </a:t>
            </a:r>
            <a:endParaRPr b="0" lang="en-US" sz="2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335" name="divider%20page" descr=""/>
          <p:cNvPicPr/>
          <p:nvPr/>
        </p:nvPicPr>
        <p:blipFill>
          <a:blip r:embed="rId3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6" name="divider%20page" descr=""/>
          <p:cNvPicPr/>
          <p:nvPr/>
        </p:nvPicPr>
        <p:blipFill>
          <a:blip r:embed="rId4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7" name="divider%20page" descr=""/>
          <p:cNvPicPr/>
          <p:nvPr/>
        </p:nvPicPr>
        <p:blipFill>
          <a:blip r:embed="rId5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8" name="divider%20page" descr=""/>
          <p:cNvPicPr/>
          <p:nvPr/>
        </p:nvPicPr>
        <p:blipFill>
          <a:blip r:embed="rId6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39" name="divider%20page" descr=""/>
          <p:cNvPicPr/>
          <p:nvPr/>
        </p:nvPicPr>
        <p:blipFill>
          <a:blip r:embed="rId7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0" name="divider%20page" descr=""/>
          <p:cNvPicPr/>
          <p:nvPr/>
        </p:nvPicPr>
        <p:blipFill>
          <a:blip r:embed="rId8"/>
          <a:stretch/>
        </p:blipFill>
        <p:spPr>
          <a:xfrm>
            <a:off x="-157320" y="-3240"/>
            <a:ext cx="9301320" cy="6861240"/>
          </a:xfrm>
          <a:prstGeom prst="rect">
            <a:avLst/>
          </a:prstGeom>
          <a:ln w="0">
            <a:noFill/>
          </a:ln>
        </p:spPr>
      </p:pic>
      <p:pic>
        <p:nvPicPr>
          <p:cNvPr id="341" name="divider%20page" descr=""/>
          <p:cNvPicPr/>
          <p:nvPr/>
        </p:nvPicPr>
        <p:blipFill>
          <a:blip r:embed="rId9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pic>
        <p:nvPicPr>
          <p:cNvPr id="342" name="divider%20page" descr=""/>
          <p:cNvPicPr/>
          <p:nvPr/>
        </p:nvPicPr>
        <p:blipFill>
          <a:blip r:embed="rId10"/>
          <a:stretch/>
        </p:blipFill>
        <p:spPr>
          <a:xfrm>
            <a:off x="-152280" y="792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343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THANK YOU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divider%20page" descr=""/>
          <p:cNvPicPr/>
          <p:nvPr/>
        </p:nvPicPr>
        <p:blipFill>
          <a:blip r:embed="rId1"/>
          <a:stretch/>
        </p:blipFill>
        <p:spPr>
          <a:xfrm>
            <a:off x="-12600" y="0"/>
            <a:ext cx="9300960" cy="68612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82760" y="2286000"/>
            <a:ext cx="81532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>
                <a:solidFill>
                  <a:srgbClr val="a80002"/>
                </a:solidFill>
                <a:latin typeface="Arial"/>
              </a:rPr>
              <a:t>ORASTATE examples</a:t>
            </a:r>
            <a:endParaRPr b="0" lang="en-US" sz="24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LOGIN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66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68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69" name="login" descr=""/>
          <p:cNvPicPr/>
          <p:nvPr/>
        </p:nvPicPr>
        <p:blipFill>
          <a:blip r:embed="rId1"/>
          <a:stretch/>
        </p:blipFill>
        <p:spPr>
          <a:xfrm>
            <a:off x="1940040" y="1719360"/>
            <a:ext cx="6526080" cy="31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Example 1 – Three simple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Person (ID, Firstname, Lastname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Address (ID, Street, City, Zip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a80002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Table LivesIn (person_id, address_id)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74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75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77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Connecting tabl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520" y="1916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Goal: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	</a:t>
            </a:r>
            <a:r>
              <a:rPr b="1" lang="en-GB" sz="1800" spc="-1" strike="noStrike">
                <a:solidFill>
                  <a:srgbClr val="a80002"/>
                </a:solidFill>
                <a:latin typeface="Arial"/>
              </a:rPr>
              <a:t>Create a graphical representation of the database.</a:t>
            </a: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83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85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ain Window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89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0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93" name="classic1" descr=""/>
          <p:cNvPicPr/>
          <p:nvPr/>
        </p:nvPicPr>
        <p:blipFill>
          <a:blip r:embed="rId1"/>
          <a:stretch/>
        </p:blipFill>
        <p:spPr>
          <a:xfrm>
            <a:off x="1457280" y="1871640"/>
            <a:ext cx="768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3520" y="-36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a80002"/>
                </a:solidFill>
                <a:latin typeface="Arial"/>
              </a:rPr>
              <a:t>Middle Button Shows Types</a:t>
            </a:r>
            <a:endParaRPr b="1" lang="en-US" sz="2200" spc="-1" strike="noStrike">
              <a:solidFill>
                <a:srgbClr val="a800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4600" y="1898640"/>
            <a:ext cx="120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Examples</a:t>
            </a: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0" y="2494080"/>
            <a:ext cx="13762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7a0000"/>
                </a:solidFill>
                <a:latin typeface="Arial"/>
              </a:rPr>
              <a:t>Implementation</a:t>
            </a:r>
            <a:r>
              <a:rPr b="1" lang="de-DE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355680" y="1984320"/>
            <a:ext cx="1018800" cy="178920"/>
            <a:chOff x="355680" y="1984320"/>
            <a:chExt cx="1018800" cy="178920"/>
          </a:xfrm>
        </p:grpSpPr>
        <p:sp>
          <p:nvSpPr>
            <p:cNvPr id="98" name=""/>
            <p:cNvSpPr/>
            <p:nvPr/>
          </p:nvSpPr>
          <p:spPr>
            <a:xfrm>
              <a:off x="355680" y="2146320"/>
              <a:ext cx="101880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7120" y="1984320"/>
              <a:ext cx="0" cy="178920"/>
            </a:xfrm>
            <a:prstGeom prst="line">
              <a:avLst/>
            </a:prstGeom>
            <a:ln w="284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a80002"/>
                </a:solidFill>
                <a:latin typeface="Times New Roman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257040" y="1474920"/>
            <a:ext cx="1109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a0000"/>
                </a:solidFill>
                <a:latin typeface="Arial"/>
              </a:rPr>
              <a:t>Introduction</a:t>
            </a:r>
            <a:endParaRPr b="0" lang="en-US" sz="1200" spc="-1" strike="noStrike">
              <a:solidFill>
                <a:srgbClr val="a80002"/>
              </a:solidFill>
              <a:latin typeface="Times New Roman"/>
            </a:endParaRPr>
          </a:p>
        </p:txBody>
      </p:sp>
      <p:pic>
        <p:nvPicPr>
          <p:cNvPr id="101" name="classic2" descr=""/>
          <p:cNvPicPr/>
          <p:nvPr/>
        </p:nvPicPr>
        <p:blipFill>
          <a:blip r:embed="rId1"/>
          <a:stretch/>
        </p:blipFill>
        <p:spPr>
          <a:xfrm>
            <a:off x="1465200" y="1760400"/>
            <a:ext cx="767880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30T20:20:36Z</dcterms:created>
  <dc:creator>ajaksch</dc:creator>
  <dc:description/>
  <dc:language>en-US</dc:language>
  <cp:lastModifiedBy>Martin Fickert</cp:lastModifiedBy>
  <dcterms:modified xsi:type="dcterms:W3CDTF">2003-05-14T14:36:27Z</dcterms:modified>
  <cp:revision>96</cp:revision>
  <dc:subject/>
  <dc:title>PowerPoint-Präsentation</dc:title>
</cp:coreProperties>
</file>