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1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1EE50-46AC-4406-8B66-6AAE1DE4CD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09CFD2-356F-4121-9258-DD21AE490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6BDDC8-F031-4CDC-9596-AA7E17CE34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8CFEFC-AFD2-4B1C-92EC-95B1B144A39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F7BF-8F9B-4BB5-8216-314C93218C3A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FAB7-A4BC-4D9C-8AD7-4A63B5B4274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B1B07-DB93-4E9A-8EB9-EA4580826F97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2B96A-BB46-41B1-B32F-0A9C2C303DE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C0C1-64E5-480A-ADDD-255B0AE14DC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4D33-7575-406E-9DDE-C47876ECE05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25B9-3DAA-4D3E-92E5-1D82942B5F0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0D3EAE-4586-4E9E-806B-063C71179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D112-61C2-445A-B744-D0995C64BC3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0C8-C93C-41C6-9480-B04B844D101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25A6-BF16-402F-8D88-654DD6F804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F57B-EADA-4775-A62A-27227BB6B5CE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1380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41440" y="12949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5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1380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41440" y="3802320"/>
            <a:ext cx="25023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075F-A8FE-4B7A-B131-C43CF66B9BD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38AC1-8D1F-4D53-AD94-A2AEB6697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BAD21B-4327-4D08-BB7B-20FDDFB3B6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970B9-4E8F-4CAC-AA22-C8D1ACF8B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676520" y="291960"/>
            <a:ext cx="7162560" cy="282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C7F529-6703-4786-9E6F-51E24A290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7D1C-76B2-4D23-A08F-E976FEE10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8023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AAFA5A-0E20-4FD0-B0BB-E6C55A34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676520" y="275760"/>
            <a:ext cx="716256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294920"/>
            <a:ext cx="3792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802320"/>
            <a:ext cx="7772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D01AF-BA56-4516-97A3-4503A9979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208080" y="291960"/>
            <a:ext cx="8707320" cy="636840"/>
            <a:chOff x="208080" y="291960"/>
            <a:chExt cx="8707320" cy="636840"/>
          </a:xfrm>
        </p:grpSpPr>
        <p:sp>
          <p:nvSpPr>
            <p:cNvPr id="2" name=""/>
            <p:cNvSpPr/>
            <p:nvPr/>
          </p:nvSpPr>
          <p:spPr>
            <a:xfrm>
              <a:off x="228600" y="304920"/>
              <a:ext cx="8686800" cy="609480"/>
            </a:xfrm>
            <a:prstGeom prst="rect">
              <a:avLst/>
            </a:prstGeom>
            <a:gradFill rotWithShape="0">
              <a:gsLst>
                <a:gs pos="0">
                  <a:srgbClr val="b82619"/>
                </a:gs>
                <a:gs pos="100000">
                  <a:srgbClr val="ffffff"/>
                </a:gs>
              </a:gsLst>
              <a:lin ang="10800000"/>
            </a:gra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208080" y="291960"/>
              <a:ext cx="1447560" cy="6368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body"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31DF18-403F-4265-8F13-6AF8160656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0" y="2514600"/>
            <a:ext cx="9144000" cy="685800"/>
          </a:xfrm>
          <a:prstGeom prst="rect">
            <a:avLst/>
          </a:prstGeom>
          <a:gradFill rotWithShape="0">
            <a:gsLst>
              <a:gs pos="0">
                <a:srgbClr val="c2b266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2FB4E-9DFD-44D9-B009-29F5A60068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activestate_logo" descr=""/>
          <p:cNvPicPr/>
          <p:nvPr/>
        </p:nvPicPr>
        <p:blipFill>
          <a:blip r:embed="rId3"/>
          <a:stretch/>
        </p:blipFill>
        <p:spPr>
          <a:xfrm>
            <a:off x="7785000" y="2565360"/>
            <a:ext cx="1314720" cy="57168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CA" sz="3200" spc="-1" strike="noStrike">
                <a:solidFill>
                  <a:srgbClr val="000000"/>
                </a:solidFill>
                <a:latin typeface="Arial"/>
              </a:rPr>
              <a:t>Applied Open Sou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Core Team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ed in August 2000 with 14 charter members based on community voting to collectively manage development of the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2133720" y="3032280"/>
          <a:ext cx="5105160" cy="2766960"/>
        </p:xfrm>
        <a:graphic>
          <a:graphicData uri="http://schemas.openxmlformats.org/drawingml/2006/table">
            <a:tbl>
              <a:tblPr/>
              <a:tblGrid>
                <a:gridCol w="2552760"/>
                <a:gridCol w="255240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arl Lehenbau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 Harriso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chael McLenn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. Richard Hip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rey Hobb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hn Ousterhou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Howlet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rent Welch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7" name=""/>
          <p:cNvGraphicFramePr/>
          <p:nvPr/>
        </p:nvGraphicFramePr>
        <p:xfrm>
          <a:off x="3753000" y="5799240"/>
          <a:ext cx="1866600" cy="431640"/>
        </p:xfrm>
        <a:graphic>
          <a:graphicData uri="http://schemas.openxmlformats.org/drawingml/2006/table">
            <a:tbl>
              <a:tblPr/>
              <a:tblGrid>
                <a:gridCol w="1866600"/>
              </a:tblGrid>
              <a:tr h="43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T: TIP Initiative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 page for Tcl</a:t>
            </a:r>
            <a:br>
              <a:rPr sz="2800"/>
            </a:b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www.tcl.tk/cgi-bin/tct/tip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IPs are intended to guide and document development o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y focus on new or changing features, not bu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Voted on by the TCT following community discussion using the TYANNOTT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Currently over 130 TI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ivided into process, informational &amp; project T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T discussion is open on the public mailing list: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tcl-core@lists.sourceforge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Maintainer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/Tk maintainers are separate from the T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intainers oversee a specific area of the core, as defined in TIP #16 for Tcl and TIP #23 for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ssist, but are not solely responsible for, fixing  bugs and adding documentation in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y are responsible for reviewing code and approving code changes to their are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Open to anyone willing to learn the 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ew volunteers always welcom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he Maintainers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276200" y="3886200"/>
          <a:ext cx="7315200" cy="1595520"/>
        </p:xfrm>
        <a:graphic>
          <a:graphicData uri="http://schemas.openxmlformats.org/drawingml/2006/table">
            <a:tbl>
              <a:tblPr/>
              <a:tblGrid>
                <a:gridCol w="1716120"/>
                <a:gridCol w="1986120"/>
                <a:gridCol w="1987560"/>
                <a:gridCol w="1625400"/>
              </a:tblGrid>
              <a:tr h="38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llen Fli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eter Spju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odd Helf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1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eorge Smit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rédéric Bonnet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Griff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hengye Ma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English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 Riefenstah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Bañó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1241280" y="1676520"/>
          <a:ext cx="7315200" cy="1622160"/>
        </p:xfrm>
        <a:graphic>
          <a:graphicData uri="http://schemas.openxmlformats.org/drawingml/2006/table">
            <a:tbl>
              <a:tblPr/>
              <a:tblGrid>
                <a:gridCol w="1716120"/>
                <a:gridCol w="1985760"/>
                <a:gridCol w="1987560"/>
                <a:gridCol w="1625760"/>
              </a:tblGrid>
              <a:tr h="402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iel Steff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im Ingha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Kevin Kenn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eff Hobb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iguel Sof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ndreas Kupri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olf Schroed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ince Darle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 Porte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 Nijtma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nal Fellow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o DeJon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t Thoyt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oe Mistachki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CA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avel Gora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95" name=""/>
          <p:cNvSpPr/>
          <p:nvPr/>
        </p:nvSpPr>
        <p:spPr>
          <a:xfrm>
            <a:off x="609480" y="1219320"/>
            <a:ext cx="2079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cl (TIP #24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09840" y="3429000"/>
            <a:ext cx="199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k (TIP #30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08760" y="5638680"/>
            <a:ext cx="480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ways open for new recruit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Scriptics/Ajuba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criptics became Ajuba Solutions in May 2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ew focus as a B2B infrastructure compan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Interwoven: content management company in need of B2B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juba assimilated on Nov 1,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cl/Tk moved to SourceForge:</a:t>
            </a:r>
            <a:br>
              <a:rPr sz="2400"/>
            </a:b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sf.net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urther open source work not continued at Interwov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Most other projects at Ajuba moved to SourceFor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ferences to Scriptics site should all be changed to </a:t>
            </a:r>
            <a:r>
              <a:rPr b="0" lang="en-CA" sz="28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6705720" y="439560"/>
            <a:ext cx="433440" cy="417600"/>
            <a:chOff x="6705720" y="439560"/>
            <a:chExt cx="433440" cy="417600"/>
          </a:xfrm>
        </p:grpSpPr>
        <p:sp>
          <p:nvSpPr>
            <p:cNvPr id="201" name=""/>
            <p:cNvSpPr/>
            <p:nvPr/>
          </p:nvSpPr>
          <p:spPr>
            <a:xfrm>
              <a:off x="6931080" y="561240"/>
              <a:ext cx="190440" cy="295920"/>
            </a:xfrm>
            <a:custGeom>
              <a:avLst/>
              <a:gdLst/>
              <a:ahLst/>
              <a:rect l="l" t="t" r="r" b="b"/>
              <a:pathLst>
                <a:path w="528" h="816">
                  <a:moveTo>
                    <a:pt x="528" y="96"/>
                  </a:moveTo>
                  <a:lnTo>
                    <a:pt x="528" y="672"/>
                  </a:lnTo>
                  <a:lnTo>
                    <a:pt x="384" y="816"/>
                  </a:lnTo>
                  <a:lnTo>
                    <a:pt x="0" y="0"/>
                  </a:lnTo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81012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6809760" y="43956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96969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675828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6757560" y="474120"/>
              <a:ext cx="311040" cy="31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6757560" y="631080"/>
              <a:ext cx="312120" cy="226080"/>
            </a:xfrm>
            <a:custGeom>
              <a:avLst/>
              <a:gdLst/>
              <a:ahLst/>
              <a:rect l="l" t="t" r="r" b="b"/>
              <a:pathLst>
                <a:path w="864" h="864">
                  <a:moveTo>
                    <a:pt x="0" y="0"/>
                  </a:moveTo>
                  <a:lnTo>
                    <a:pt x="0" y="864"/>
                  </a:lnTo>
                  <a:lnTo>
                    <a:pt x="864" y="864"/>
                  </a:lnTo>
                  <a:lnTo>
                    <a:pt x="864" y="0"/>
                  </a:lnTo>
                </a:path>
              </a:pathLst>
            </a:custGeom>
            <a:solidFill>
              <a:srgbClr val="c0c0c0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6705720" y="559440"/>
              <a:ext cx="4334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Arial"/>
                </a:rPr>
                <a:t>R.I.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at SourceFor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urceForge provides a wealth of services for open source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ug and patch data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Mailing li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VS reposito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Web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Managed by TCT and Tcl/Tk maintain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Not the Tcl Developer Xchan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@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established 199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ed Open Sourc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d to be Perl specif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ll known ActivePerl distribu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ed Python and XML/XSLT expertise in 2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eff Hobbs hired in Feb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dreas Kupries follows soon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knowledgeable Tcl’ers on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alth of scripting knowledge at ActiveSt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State and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8487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provides the Tcl community with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ments to open source Tcl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st of the Tcl Developer Xch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ercial support infrastru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51"/>
              </a:spcBef>
              <a:buClr>
                <a:srgbClr val="0066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Direct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fessional services for Tcl (TclDirec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igh quality development too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ctiveTc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N Tcl (Tcl Dev Kit + Komodo I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66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66ff"/>
                </a:solidFill>
                <a:uFillTx/>
                <a:latin typeface="Arial"/>
              </a:rPr>
              <a:t>http://www.ActiveState.com/Tcl/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tiveTcl 8.4.3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9246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ased on the 8.4.3 Tcl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hanced with many popular extens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[incr Tcl], TclX, expect, tcllib, Bwidgets, iwidgets, tktable, tkc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standard batteries-included distribution for Tcl us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vailable for Win, Lin, Sol, HP-U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repository (still) in the wor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Developer Xchan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tdx-may2003" descr=""/>
          <p:cNvPicPr/>
          <p:nvPr/>
        </p:nvPicPr>
        <p:blipFill>
          <a:blip r:embed="rId1"/>
          <a:stretch/>
        </p:blipFill>
        <p:spPr>
          <a:xfrm>
            <a:off x="1000080" y="990720"/>
            <a:ext cx="7229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564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The (Active) State of Tc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cl’Europe 200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ndreas Kup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ActiveState Corpo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 Cookbook on ASP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ASPN_Tcl_Cookbook" descr=""/>
          <p:cNvPicPr/>
          <p:nvPr/>
        </p:nvPicPr>
        <p:blipFill>
          <a:blip r:embed="rId1"/>
          <a:stretch/>
        </p:blipFill>
        <p:spPr>
          <a:xfrm>
            <a:off x="1143000" y="1192320"/>
            <a:ext cx="6934320" cy="520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– Professional Tcl bund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ed December 200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(based on TclPr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modo Pro 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fari Bookshelf online book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3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4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25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-launched TclPro as updated commercial quality “Tcl Dev Kit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bugg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source-level debugger with G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find errors without running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 (Wrapper)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self-contained applications for distribu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pi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protect your source c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2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Tcl Dev Ki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and enhanced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verag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overage and hot-spot analysis built into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Sv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create and manage Tcl scripts as Windows NT ser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clApp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ewrite of the wrapper based on VFS and starkit archit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o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runtime Tcl application browser to complement the Debugg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features and UIs for original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4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5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36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37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Komodo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sional IDE for scripting langu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essional IDE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ght integration with Tcl Dev K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nique Tcl editing feat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Tk GUI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-platform (Windows &amp; Linu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supports Perl, Python, PHP, XSLT and m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1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2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43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Komodo ID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komodo" descr=""/>
          <p:cNvPicPr/>
          <p:nvPr/>
        </p:nvPicPr>
        <p:blipFill>
          <a:blip r:embed="rId1"/>
          <a:stretch/>
        </p:blipFill>
        <p:spPr>
          <a:xfrm>
            <a:off x="638280" y="1030320"/>
            <a:ext cx="7819920" cy="57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SPN Tcl: Futur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ing development of Tcl 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2.6 released May 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hanced debugger with std channel interac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amped Inspector U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 Dev Kit 3.0 on the drawing bo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UI Builder v2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many widgets 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nu buil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debug8b32" descr=""/>
          <p:cNvPicPr/>
          <p:nvPr/>
        </p:nvPicPr>
        <p:blipFill>
          <a:blip r:embed="rId1"/>
          <a:stretch/>
        </p:blipFill>
        <p:spPr>
          <a:xfrm>
            <a:off x="8153280" y="205740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49" name="check8b32" descr=""/>
          <p:cNvPicPr/>
          <p:nvPr/>
        </p:nvPicPr>
        <p:blipFill>
          <a:blip r:embed="rId2"/>
          <a:stretch/>
        </p:blipFill>
        <p:spPr>
          <a:xfrm>
            <a:off x="8153280" y="30481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250" name="wrap8b32" descr=""/>
          <p:cNvPicPr/>
          <p:nvPr/>
        </p:nvPicPr>
        <p:blipFill>
          <a:blip r:embed="rId3"/>
          <a:stretch/>
        </p:blipFill>
        <p:spPr>
          <a:xfrm>
            <a:off x="8153280" y="4038480"/>
            <a:ext cx="609840" cy="609840"/>
          </a:xfrm>
          <a:prstGeom prst="rect">
            <a:avLst/>
          </a:prstGeom>
          <a:ln w="0">
            <a:noFill/>
          </a:ln>
        </p:spPr>
      </p:pic>
      <p:pic>
        <p:nvPicPr>
          <p:cNvPr id="251" name="comp8b32" descr=""/>
          <p:cNvPicPr/>
          <p:nvPr/>
        </p:nvPicPr>
        <p:blipFill>
          <a:blip r:embed="rId4"/>
          <a:stretch/>
        </p:blipFill>
        <p:spPr>
          <a:xfrm>
            <a:off x="8153280" y="5029200"/>
            <a:ext cx="609840" cy="60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Plugin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3" name="plugin-may2003" descr=""/>
          <p:cNvPicPr/>
          <p:nvPr/>
        </p:nvPicPr>
        <p:blipFill>
          <a:blip r:embed="rId1"/>
          <a:stretch/>
        </p:blipFill>
        <p:spPr>
          <a:xfrm>
            <a:off x="4343400" y="2984400"/>
            <a:ext cx="4495680" cy="341640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t’s baaaaaack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for IE6 and latest NPAPI brows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ill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3.0 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res 8.4.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ips with TD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e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istribu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In the Community…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’ers Wiki has increased in activ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iki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w with interactive ch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he Tcl Developer Xchange official UR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tcl.t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tcl.ActiveState.com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-URL! continues to provide weekly new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66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 u="sng">
                <a:solidFill>
                  <a:srgbClr val="0066ff"/>
                </a:solidFill>
                <a:uFillTx/>
                <a:latin typeface="Arial"/>
              </a:rPr>
              <a:t>http://www.ddj.com/topics/tclur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Or subscribe to </a:t>
            </a:r>
            <a:r>
              <a:rPr b="0" lang="en-CA" sz="2000" spc="-1" strike="noStrike" u="sng">
                <a:solidFill>
                  <a:srgbClr val="0066ff"/>
                </a:solidFill>
                <a:uFillTx/>
                <a:latin typeface="Arial"/>
              </a:rPr>
              <a:t>tcl-announce@listserv.activestate.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ots of extension upda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701680" y="2021040"/>
            <a:ext cx="27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Check out the wiki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Today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wnload rate stead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: 5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x: 40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: 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now considered the stable ver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virtual file system (VF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performance enhanc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d locale support in T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ts now exist for Windows/CE and Pal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5564160" y="1447920"/>
            <a:ext cx="3289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iveTcl downloa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poin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2x ActivePython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~1/7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ctivePerl d/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gend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happened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in the Tcl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velopments of the Tcl/Tk co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.3 released May 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4 added spinbox, labelframe, panedwindow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ral core feature enhanc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FS, lset, command trac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gnificant work on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0+% performance improvement over 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ar or better than 8.0, but now unicode aware and thread-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integer and file-syste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Tcl/Tk 8.4 (cont.)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book4cover_sm" descr=""/>
          <p:cNvPicPr/>
          <p:nvPr/>
        </p:nvPicPr>
        <p:blipFill>
          <a:blip r:embed="rId1"/>
          <a:stretch/>
        </p:blipFill>
        <p:spPr>
          <a:xfrm>
            <a:off x="5715000" y="2286000"/>
            <a:ext cx="3244680" cy="4319640"/>
          </a:xfrm>
          <a:prstGeom prst="rect">
            <a:avLst/>
          </a:prstGeom>
          <a:ln w="0">
            <a:noFill/>
          </a:ln>
        </p:spPr>
      </p:pic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st widget have updated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ound buttons (simultaneous image and tex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ymmetric pad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w books from Fly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Welch coming so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pdated for 8.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8.5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ly in develop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schedule not finaliz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ning Q4’03/Q1’04 fi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erous TIPs already targeting 8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’ data stru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ed ‘expr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posals for more widg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munity input is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/Tk 9.0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he drawing board, but really just at the wishlist st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tionalize C AP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e restructuring of Tcl level commands and global d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OO / encapsulation features in the core (ensembl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ove octal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her improve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00000"/>
                </a:solidFill>
                <a:latin typeface="Arial"/>
              </a:rPr>
              <a:t>User Poll: Vers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sions in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-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(unrelease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User Poll: Platform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/Deplo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intosh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lar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P-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ther unix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pon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Future Directions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re is guided by community inpu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write a T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one can be a core maintain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5 now in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0 on the drawing bo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issues are most pressing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tiveState will continue to work with the Tcl community and build more Tcl related produ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mos to foll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deas in the Pipelin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8544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More) improved Tcl perform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e archive file support (.jar/.zip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r source / binary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Instal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4-bit overha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odules shipped with core (ie: incr Tc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479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maller, modular c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rag &amp; Dr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Tk 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ing sup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k abstraction layer (Tk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gawidgets (roll your ow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Widge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Q &amp; 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 to Tcl Dev Kit &amp; Komodo demos 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bout ActiveStat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ctiveState provides multi-language, cross-platform software &amp; servi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cl, Perl, PHP, Python, XSL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Linux, Solaris, Windows, HP-UX, AIX, 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Mission: Make Programming Easi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Software development too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High quality language distribu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Programmer Resour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PureMessage email filtering gate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464832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0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522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0948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8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066680" y="2666880"/>
            <a:ext cx="4827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47640" y="2666880"/>
            <a:ext cx="4572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00160" y="2666880"/>
            <a:ext cx="5144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502000" y="2666880"/>
            <a:ext cx="5140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495600" y="2666880"/>
            <a:ext cx="54288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5720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1055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" y="1714680"/>
            <a:ext cx="0" cy="952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623960" y="1652400"/>
            <a:ext cx="228600" cy="30193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3019320"/>
              <a:gd name="textAreaBottom" fmla="*/ 2993760 h 3019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10210"/>
                </a:lnTo>
                <a:cubicBezTo>
                  <a:pt x="10800" y="10505"/>
                  <a:pt x="5400" y="10799"/>
                  <a:pt x="0" y="10799"/>
                </a:cubicBezTo>
                <a:cubicBezTo>
                  <a:pt x="5400" y="10799"/>
                  <a:pt x="10800" y="11094"/>
                  <a:pt x="10800" y="11388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1733400" y="3323880"/>
            <a:ext cx="0" cy="4856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rot="16200000">
            <a:off x="4162320" y="2180880"/>
            <a:ext cx="228600" cy="1962000"/>
          </a:xfrm>
          <a:custGeom>
            <a:avLst/>
            <a:gdLst>
              <a:gd name="textAreaLeft" fmla="*/ 146160 w 228600"/>
              <a:gd name="textAreaRight" fmla="*/ 228960 w 228600"/>
              <a:gd name="textAreaTop" fmla="*/ 16560 h 1962000"/>
              <a:gd name="textAreaBottom" fmla="*/ 1945440 h 196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95"/>
                  <a:pt x="10800" y="589"/>
                </a:cubicBezTo>
                <a:lnTo>
                  <a:pt x="10800" y="7029"/>
                </a:lnTo>
                <a:cubicBezTo>
                  <a:pt x="10800" y="7324"/>
                  <a:pt x="5400" y="7618"/>
                  <a:pt x="0" y="7618"/>
                </a:cubicBezTo>
                <a:cubicBezTo>
                  <a:pt x="5400" y="7618"/>
                  <a:pt x="10800" y="7913"/>
                  <a:pt x="10800" y="8207"/>
                </a:cubicBezTo>
                <a:lnTo>
                  <a:pt x="10800" y="21011"/>
                </a:lnTo>
                <a:cubicBezTo>
                  <a:pt x="10800" y="21306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3990960" y="3314880"/>
            <a:ext cx="0" cy="17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038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280" y="3809880"/>
            <a:ext cx="2667240" cy="10670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pen source distribu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from U.C. Berkeley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asy GUIs under Unix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xtensible appl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5029200"/>
            <a:ext cx="3629160" cy="1066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enhanced at Sun Microsystem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indows, Macintosh po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eb/Internet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Java suppor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352680" y="1295280"/>
            <a:ext cx="3048120" cy="838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4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 forme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volve and extend Tcl platfor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reate development too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240" y="1181160"/>
            <a:ext cx="3170160" cy="8762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reated as general-purpose command/scripting language by John Ousterhou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019320" y="2666880"/>
            <a:ext cx="4860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64984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0384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99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17868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791320" y="4095720"/>
            <a:ext cx="2705040" cy="571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6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criptics/Ajuba Acquired by Interwoven (Nov.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 flipV="1">
            <a:off x="6649920" y="2971800"/>
            <a:ext cx="0" cy="1123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705720" y="2666880"/>
            <a:ext cx="53316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81680" y="2057400"/>
            <a:ext cx="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553080" y="1143000"/>
            <a:ext cx="2416320" cy="9144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7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 support and servic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 flipV="1">
            <a:off x="6210360" y="2971800"/>
            <a:ext cx="368280" cy="447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495680" y="3419640"/>
            <a:ext cx="1949400" cy="571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5.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 Core Team formed (Augus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00480"/>
            <a:ext cx="63360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6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362320" y="2400480"/>
            <a:ext cx="64296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0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381480" y="2400480"/>
            <a:ext cx="59508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4 Ju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8480" y="2400480"/>
            <a:ext cx="5479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 anchorCtr="1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.6 O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538960" y="2400480"/>
            <a:ext cx="5713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1 Ap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49840" y="3029040"/>
            <a:ext cx="59868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2 Au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172200" y="2400480"/>
            <a:ext cx="558720" cy="1904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3 Fe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62840" y="2514600"/>
            <a:ext cx="7632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7900920" y="5572080"/>
            <a:ext cx="1045800" cy="276480"/>
            <a:chOff x="7900920" y="5572080"/>
            <a:chExt cx="1045800" cy="276480"/>
          </a:xfrm>
        </p:grpSpPr>
        <p:sp>
          <p:nvSpPr>
            <p:cNvPr id="135" name=""/>
            <p:cNvSpPr/>
            <p:nvPr/>
          </p:nvSpPr>
          <p:spPr>
            <a:xfrm>
              <a:off x="7921800" y="557208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7900920" y="557208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8275680" y="2590920"/>
            <a:ext cx="485640" cy="459720"/>
          </a:xfrm>
          <a:prstGeom prst="rect">
            <a:avLst/>
          </a:prstGeom>
          <a:noFill/>
          <a:ln w="0">
            <a:noFill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23888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772400" y="2666880"/>
            <a:ext cx="53352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74080" y="2400480"/>
            <a:ext cx="598320" cy="1998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4 S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8458200" y="24098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9.0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900920" y="3029040"/>
            <a:ext cx="468360" cy="209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53966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 flipV="1">
            <a:off x="2971800" y="3276720"/>
            <a:ext cx="0" cy="860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6676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Recent History of Tcl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92040" y="1666800"/>
            <a:ext cx="0" cy="1305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6320" y="1057320"/>
            <a:ext cx="2590560" cy="6094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introduces Tc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upport and services (Fe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5228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00400" y="2971800"/>
            <a:ext cx="302904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90400" y="2590920"/>
            <a:ext cx="94320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42920" y="4019400"/>
            <a:ext cx="1762200" cy="5526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1 (Jun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1576440" y="3276360"/>
            <a:ext cx="0" cy="7426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785960" y="1819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143160" y="4800600"/>
            <a:ext cx="17337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2 (Ju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495680" y="3276360"/>
            <a:ext cx="0" cy="1523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5715000" y="3276720"/>
            <a:ext cx="0" cy="371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2838600"/>
            <a:ext cx="75960" cy="152280"/>
          </a:xfrm>
          <a:prstGeom prst="irregularSeal1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" bIns="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7900920" y="6278400"/>
            <a:ext cx="1045800" cy="276480"/>
            <a:chOff x="7900920" y="6278400"/>
            <a:chExt cx="1045800" cy="276480"/>
          </a:xfrm>
        </p:grpSpPr>
        <p:sp>
          <p:nvSpPr>
            <p:cNvPr id="159" name=""/>
            <p:cNvSpPr/>
            <p:nvPr/>
          </p:nvSpPr>
          <p:spPr>
            <a:xfrm>
              <a:off x="7921800" y="6278400"/>
              <a:ext cx="102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200" spc="-1" strike="noStrike">
                  <a:solidFill>
                    <a:srgbClr val="000000"/>
                  </a:solidFill>
                  <a:latin typeface="Times New Roman"/>
                </a:rPr>
                <a:t>You are her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7900920" y="6278400"/>
              <a:ext cx="76320" cy="152280"/>
            </a:xfrm>
            <a:prstGeom prst="irregularSeal1">
              <a:avLst/>
            </a:prstGeom>
            <a:solidFill>
              <a:srgbClr val="ffff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720" bIns="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1" name=""/>
          <p:cNvSpPr/>
          <p:nvPr/>
        </p:nvSpPr>
        <p:spPr>
          <a:xfrm>
            <a:off x="6248520" y="2971800"/>
            <a:ext cx="2701800" cy="3049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00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41008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3486240"/>
            <a:ext cx="9428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3.4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133720" y="414324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Pro 1.5 (Dec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951440" y="550548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0 (Au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486400" y="3648240"/>
            <a:ext cx="1127160" cy="49500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8.3.5 O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* 8.3 E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029200" y="2219400"/>
            <a:ext cx="100476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0 Sep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257800" y="3276360"/>
            <a:ext cx="0" cy="222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224240" y="1495440"/>
            <a:ext cx="187164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 (Sep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 flipV="1">
            <a:off x="6934320" y="327636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705720" y="4724280"/>
            <a:ext cx="173340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cl’Europe 2003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705720" y="4334040"/>
            <a:ext cx="1004760" cy="2473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4.3 M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858000" y="2467080"/>
            <a:ext cx="0" cy="504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613560" y="1933560"/>
            <a:ext cx="2001960" cy="53352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ctiveState Tcl Dev Kit 2.6 (Ma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068960" y="3543480"/>
            <a:ext cx="1951200" cy="64764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en-US" sz="16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Tcl Conferen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(July 29 – Aug 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7620120" y="3276360"/>
            <a:ext cx="0" cy="266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001000" y="2619360"/>
            <a:ext cx="797040" cy="247680"/>
          </a:xfrm>
          <a:prstGeom prst="roundRect">
            <a:avLst>
              <a:gd name="adj" fmla="val 10417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228600" indent="-22860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8.5 ?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cl usage is still grow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d extensively for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sco, Motorola, Lucent, Nortel, etc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ated hardware test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 different pieces of test equip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cl soon to be standard on all Cisco rou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L Digital City, Travelocity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ynamic Web cont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tegrate information from different sour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ent developers are not program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cl Usage, Cont’d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re mission-critical application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BC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gital broadcast control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x programming content, control transmission through satellites to local st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xa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d in animation tools (RenderMan softwar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chnical directors write Tcl scripts to animate charact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ell Oi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al-time control for offshore oil platfor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ordinate, manage various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676520" y="29196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atus As of Tcl’Europe 2002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cl/Tk 8.3.4 was the stable ver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.3 now base standard in Linux distr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8.4b1 was just releas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eature frozen after 2 years in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umerous enhancements and addi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6-08T15:59:22Z</dcterms:created>
  <dc:creator>Jeff Hobbs</dc:creator>
  <dc:description/>
  <dc:language>en-US</dc:language>
  <cp:lastModifiedBy>Jeff Hobbs</cp:lastModifiedBy>
  <cp:lastPrinted>1999-01-02T23:07:33Z</cp:lastPrinted>
  <dcterms:modified xsi:type="dcterms:W3CDTF">2003-05-26T19:18:32Z</dcterms:modified>
  <cp:revision>409</cp:revision>
  <dc:subject/>
  <dc:title>Tcl'Europe 2003 State of Tcl</dc:title>
</cp:coreProperties>
</file>