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move the slide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9181B-27DA-4F0B-984E-ACE569006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7692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1760" y="4012560"/>
            <a:ext cx="7692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C2668-04A5-40A3-8250-7F7FB6CEB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1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3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A4583-4F72-4528-8CFA-9410E9B69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2760" y="19047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63760" y="19047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1760" y="40125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2760" y="40125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63760" y="40125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46BF9-B45D-4DA9-BEEF-40F7E3974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87840-B738-4697-B264-6EC0426A3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61760" y="1904760"/>
            <a:ext cx="7692840" cy="403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41B08-94C7-41E2-B6D6-65087539B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769284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4A1F5-3695-4F83-BFD8-DD2C1A03F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31533-6AB5-4EDC-B05E-D8C1C8EE7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157BB-21AA-4F5C-A734-59441FA74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61760" y="533520"/>
            <a:ext cx="769284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C2CA9-5504-4EED-8B59-2851D5138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61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ECBD4-F41D-49DF-8EEF-3611EF08B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1760" y="1904760"/>
            <a:ext cx="7692840" cy="403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5A892-87DB-492E-8411-ADA485335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3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7C603-A3CE-4E21-980C-99A802833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1760" y="4012560"/>
            <a:ext cx="7692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0F84D-571C-40D6-91F1-D6A795099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7692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61760" y="4012560"/>
            <a:ext cx="7692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33B36-1C61-485C-9233-A9A19C299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61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03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D7899-7838-4E46-8FC6-672137D3C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2760" y="19047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63760" y="19047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61760" y="40125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2760" y="40125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63760" y="40125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F271F-3C97-464C-B372-265529469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769284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B8D6A-2D0F-4445-BD78-61919445C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1C918-7FDA-400B-8FB4-82189D50B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2F22C-23CB-4078-979F-0F58234D9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1760" y="533520"/>
            <a:ext cx="769284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7973E-9CE3-4B2E-B8F6-96D7E6695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1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5D344-7A75-4EC1-AE96-DBA4740D0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3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B5B9B-5B8B-4577-9E2A-B48416EE2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1760" y="4012560"/>
            <a:ext cx="7692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7A00F-EDED-42FB-B9C1-1BCB0D6B8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1904760"/>
            <a:ext cx="769284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74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391080"/>
            <a:ext cx="20541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320" y="640368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400440"/>
            <a:ext cx="15969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AA2CBC-5239-4DF0-9B35-F65E5E0096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6" name="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62120" y="1709640"/>
              <a:ext cx="7696080" cy="180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440" y="856800"/>
            <a:ext cx="7769160" cy="226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62120" y="6391080"/>
            <a:ext cx="20541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352320" y="639108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858000" y="6391080"/>
            <a:ext cx="15969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5C220E-8068-42A7-821C-E51A354542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9840" indent="-339840">
              <a:spcBef>
                <a:spcPts val="774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153280" cy="22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336666"/>
                </a:solidFill>
                <a:latin typeface="Arial Black"/>
              </a:rPr>
              <a:t>Networked Digital Whiteboard</a:t>
            </a:r>
            <a:br>
              <a:rPr sz="2400"/>
            </a:br>
            <a:r>
              <a:rPr b="0" i="1" lang="en-US" sz="2400" spc="-1" strike="noStrike">
                <a:solidFill>
                  <a:srgbClr val="336666"/>
                </a:solidFill>
                <a:latin typeface="Arial Black"/>
              </a:rPr>
              <a:t> with </a:t>
            </a:r>
            <a:br>
              <a:rPr sz="2400"/>
            </a:br>
            <a:r>
              <a:rPr b="0" i="1" lang="en-US" sz="2400" spc="-1" strike="noStrike">
                <a:solidFill>
                  <a:srgbClr val="336666"/>
                </a:solidFill>
                <a:latin typeface="Arial Black"/>
              </a:rPr>
              <a:t>Handwritten-Symbol Interpreter and</a:t>
            </a:r>
            <a:br>
              <a:rPr sz="2400"/>
            </a:br>
            <a:r>
              <a:rPr b="0" i="1" lang="en-US" sz="2400" spc="-1" strike="noStrike">
                <a:solidFill>
                  <a:srgbClr val="336666"/>
                </a:solidFill>
                <a:latin typeface="Arial Black"/>
              </a:rPr>
              <a:t> Dynamic-Display-Object Creato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752120" y="3566880"/>
            <a:ext cx="54104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1c3938"/>
                </a:solidFill>
                <a:latin typeface="Arial"/>
              </a:rPr>
              <a:t>Atsuhide Kobash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1c3938"/>
                </a:solidFill>
                <a:latin typeface="Arial"/>
              </a:rPr>
              <a:t>Henry M. Gunn High Scho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1c3938"/>
                </a:solidFill>
                <a:latin typeface="Arial"/>
              </a:rPr>
              <a:t>Palo Alto, Californ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1c3938"/>
                </a:solidFill>
                <a:latin typeface="Arial"/>
              </a:rPr>
              <a:t>September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Presentation Screen 2 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(Augmented by participant)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‏</a:t>
            </a:r>
            <a:endParaRPr b="0" lang="en-US" sz="1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77028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xt and arrow added by a particip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684680" y="1905120"/>
            <a:ext cx="3772080" cy="403704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4419720" y="190512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Presentation Screen 3 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(Augmented by participants)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‏</a:t>
            </a:r>
            <a:endParaRPr b="0" lang="en-US" sz="1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50496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vas window with scrollbars added by another particip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4419720" y="190512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Presentation Screen 4 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(Augmented by participants)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‏</a:t>
            </a:r>
            <a:endParaRPr b="0" lang="en-US" sz="1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58128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inbox added by the participant who created the canvas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inbox linked to a variable that affects the output (quadratic curve) on the added canv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4684680" y="1905120"/>
            <a:ext cx="3772080" cy="403704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4419720" y="190512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Presentation Screen 5 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(Augmented by participants)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‏</a:t>
            </a:r>
            <a:endParaRPr b="0" lang="en-US" sz="1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35268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xt widget window with a scrollbar added by another particip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4684680" y="1905120"/>
            <a:ext cx="3772080" cy="403704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4419720" y="190512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Master Controlle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27636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d by the prese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ent side controller has no page-change cap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114800" y="2286000"/>
            <a:ext cx="4314960" cy="272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Draw/Write Tool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2946240" y="2232000"/>
            <a:ext cx="3324240" cy="128592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62120" y="3998880"/>
            <a:ext cx="7694640" cy="19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d for all drawing and writing including the handwriting of symb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Hand-Written Symbol Interprete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411480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voked by the Draw/Write t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ze and color set by the Draw/Write t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tion set by mouse click on the target pla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5257800" y="2057400"/>
            <a:ext cx="1714680" cy="2228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Widget Creato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495288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ree types of widg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ents selector helps quick compos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inbox can be linked to a variable that changes out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5715000" y="1905120"/>
            <a:ext cx="2741760" cy="403704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5943600" y="1905120"/>
            <a:ext cx="224172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Canvas created by Widget Creato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1525680" y="1905120"/>
            <a:ext cx="2241360" cy="403704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4761000" y="2017800"/>
            <a:ext cx="3619440" cy="380988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3886200" y="3886200"/>
            <a:ext cx="685800" cy="1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Spinbox created by Widget Creato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1525680" y="1905120"/>
            <a:ext cx="2241360" cy="40370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4761000" y="2017800"/>
            <a:ext cx="3619440" cy="380988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3886200" y="3886200"/>
            <a:ext cx="685800" cy="1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What is it?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696080" cy="31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cl/Tk-based whiteboard presentation tool with unique functiona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601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dience can participate in the 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601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work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601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ables quick construction of complex objects for displaying during 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Details on the Three Functions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464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74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wor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74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ndwritten symbol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74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UI and Widget Cre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Behind the Networking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of TCL’s network-related commands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25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devel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of custom header to indic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76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ypes of data  (multiple combinations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76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ngth of each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76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w to handle each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76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wner ID and sequence inde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76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onal extra information fiel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conomy on transmitted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76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 of wish by both server and clients reduces the amount of transmitted code  (suitable for networking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76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the widgets created by the Widget Creator, only the specifications entered in the Widget Creator are transmit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Behind the Hand-Written-Symbol Interprete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algorithms avail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perfect or even near human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s lots of CPU 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f C module needed for sp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ill under development and modules for a small number of symbols develop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nt for the converted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puts from Tex u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the symbols not available from Tex, custom raster symbol creation requi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Behind the GUI and Widget Creato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76960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GUI Tk-bas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rits of T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sy and quick to create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mall amount of code fits well for transmi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sy to inspect the transmitted code in development stage, since it is written in human readable scrip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fe independent operation for each participant guaranteed by multiple interpre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Current Problems</a:t>
            </a:r>
            <a:r>
              <a:rPr b="0" lang="en-US" sz="1900" spc="-1" strike="noStrike">
                <a:solidFill>
                  <a:srgbClr val="336666"/>
                </a:solidFill>
                <a:latin typeface="Arial Black"/>
              </a:rPr>
              <a:t> </a:t>
            </a:r>
            <a:endParaRPr b="0" lang="en-US" sz="19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all slide creation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akes more time to make presentation pages than the conventional presentation tool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aphic input t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More variation neede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dget crea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Wider variety of widgets need to be handle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ple interpreter desig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Use of threaded system desirable for smooth operatio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nd-written symbol interpre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overage of more symbols and better recognition algorithm neede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 functiona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Page advance/backup capability on the client side without affecting  the display of the serve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Conclusion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rent state still version 0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51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ugh edges exist. Refinement need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rently TCL/TK knowledge required to compose presentation slides.  (Less so for clients to add  objects.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51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convenience modules needed to compete directly with PowerPoint and Impre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 potential to become a useful tool for users in various fields, not just educati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51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other tool can enable networked two-way interactive presentation with dynamically manipulable objec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Motivation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769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r sit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ducational presentation in classes and confer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ientific subjects: math, physics, chemistry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lems with the conventional presentation tool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PowerPoint, Impress, etc. 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way information fl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mote (off-site) audience cannot particip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ck of tools to quickly cre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lex symbol struc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ynamic display 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ution:  Our new ap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New Function 1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62120" y="2209320"/>
            <a:ext cx="76960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way information 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able audience to add objects on the scre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es of objects to be dynamically create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es, arro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s, ov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dgets, both static and dynamically manipu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New Function 2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2120" y="2285640"/>
            <a:ext cx="76960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through network with participants at bo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sentation s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mote lo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2120" y="91404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Networked Two-Way Presentation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362320"/>
            <a:ext cx="1143000" cy="1143000"/>
          </a:xfrm>
          <a:prstGeom prst="ellipse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79440" y="2322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143000" y="2666880"/>
            <a:ext cx="944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Presenter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477120" y="2362320"/>
            <a:ext cx="1143000" cy="1143000"/>
          </a:xfrm>
          <a:prstGeom prst="ellipse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209680" y="2971800"/>
            <a:ext cx="4267440" cy="1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553080" y="2666880"/>
            <a:ext cx="1003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Participant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2286000"/>
            <a:ext cx="1371600" cy="533520"/>
          </a:xfrm>
          <a:prstGeom prst="rect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Ob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505320" y="3124080"/>
            <a:ext cx="1371600" cy="533520"/>
          </a:xfrm>
          <a:prstGeom prst="rect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pd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876920" y="3352680"/>
            <a:ext cx="91440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590920" y="2514600"/>
            <a:ext cx="914400" cy="1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066680" y="5029200"/>
            <a:ext cx="1143000" cy="1143000"/>
          </a:xfrm>
          <a:prstGeom prst="ellipse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143000" y="5334120"/>
            <a:ext cx="1003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Participant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4419720"/>
            <a:ext cx="1143000" cy="1600200"/>
          </a:xfrm>
          <a:prstGeom prst="rect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ccc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886200" y="4495680"/>
            <a:ext cx="68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655800" y="4952880"/>
            <a:ext cx="119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llowing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657600" y="4876920"/>
            <a:ext cx="1143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86200" y="5334120"/>
            <a:ext cx="71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SCII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Binary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676520" y="3505320"/>
            <a:ext cx="1440" cy="1523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505320" y="4114800"/>
            <a:ext cx="135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mitted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New Function 3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ability to efficiently and quickly construct complex symbol structures  (for math, logic, scientific symbols) by handwr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New Function 4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ability to quickly create widgets including dynamically manipulable on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Presentation Screen 1 (Original)</a:t>
            </a: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‏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77028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k-based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full-screen m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684680" y="1905120"/>
            <a:ext cx="3772080" cy="40370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4419720" y="190512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dmin</dc:creator>
  <dc:description/>
  <dc:language>en-US</dc:language>
  <cp:lastModifiedBy>Admin</cp:lastModifiedBy>
  <cp:revision>0</cp:revision>
  <dc:subject/>
  <dc:title>Networked Digital Whiteboard  with  Handwritten-Symbol Interpreter and  Dynamic-Display-Object Creator</dc:title>
</cp:coreProperties>
</file>