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45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852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688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85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398840" y="9555120"/>
            <a:ext cx="33688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CBE439-F2D0-4586-839B-2F5A5C9783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5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A56E-99F3-4E5E-8D43-8EC47477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BB1D-E943-4A61-8F21-6C0F1FCE2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C0A5-D9A0-45FC-BCD2-2FD8DF306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832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4000"/>
            <a:ext cx="291960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CC0A-2F6D-4128-A14D-EDA667FA6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2DCA-C0D1-4876-BC3F-AB7100BD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654-7B8F-4FA8-8B7D-5FBC88F05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92B8-161C-4C7B-BED0-F9F94102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AE59-52E7-49C9-BA00-4B8BE64A8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768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1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A9680-A5A4-42E5-8F56-88CE7C272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A85E-D621-42DB-9BD6-5BF3C1A39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400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CB60-AE21-41EC-B5E3-6961C9400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8320"/>
            <a:ext cx="44247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7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5144-90BC-42C2-B513-AC5C10533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76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76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90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080"/>
            <a:ext cx="2343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B6C617-C333-4379-84A0-F5878FFE94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SQLite in Tcl in SQLi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Tcl/Tk script for displaying and maintaining an SQLite database, stored in an SQLite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 wind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914400" y="1828800"/>
            <a:ext cx="787572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Table Dis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687240" y="1828800"/>
            <a:ext cx="862020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tand-alon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vert between v2 and v3 file form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table from or export table to delimited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rst row can be column names or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mported data can have variable number of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ort db element from or export db element to text file (like ONECOLUMN metho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ecute a single line of SQL or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Run SQ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855880" y="1828800"/>
            <a:ext cx="4346640" cy="50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cision to Put showtable in Database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pired by the “Database as Program” section of DRH's “SQLite and Tcl” paper, but not an implementation of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 wanted to put a functional block (the chief proc for a function and its supporting proc's) in on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n't put header and body in separate colum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utside function can't call support proc unless its functional block is known to have been load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2920" y="269640"/>
            <a:ext cx="9072360" cy="113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EB: Impacts of Putting showtable in Database Fi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29920" y="1600200"/>
            <a:ext cx="9072360" cy="558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TTACH capability became mand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only one file can be displayed/edited, that one slot can't be taken up by the displaying program itsel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o data arrays as 2D (attach name and original inde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d to implement edi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arching routine needed to look at all Tcl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 matching brackets, braces, and parenth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place and Replace All, with and without confirmation requi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eck for infinit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editruntc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233360"/>
            <a:ext cx="6580080" cy="6081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ear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1442880"/>
            <a:ext cx="7467480" cy="5645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Bootstr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28480" y="1545840"/>
            <a:ext cx="9072720" cy="576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ackage require Tk; package require Tktable; console sh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Create namespace for all "globals" and pro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namespace eval ::GEB {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3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load /sqlite/tclsqlite.d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dbfile showtable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qlite3 sq $dbf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set ::GEB::attachfilename(main) $dbf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proc evalsqlitetcl t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uplevel #0 [join [sq eval "select tcl from $table limit 1"]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valsqlitetcl main_atta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editrunt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9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Courier New"/>
              </a:rPr>
              <a:t># attachit s2008 /irisdata/2008symp/2008symp.sq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main_attach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2360" cy="531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d in core rout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ose needed before “unknown” is set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t up window and arrays for main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able names, columns in each tabl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tend “unknown” proc handler to look in database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table with the name of the needed proc exists, load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the loading defines the proc, execute 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therwise, exec original “unknown” hand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—Presentation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ow the projec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at its goals have b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rly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volution: tkTable, storing script in SQLite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ootup summ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ast and fu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users and licen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81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ve demonst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Summary of Development Exper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mazingly few gotchas considering my level of knowledge of Tcl/Tk/SQLite when I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t often took longer to decide what I wanted to do and how I wanted it to work than to implement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 very useful tool. For me. It fits my way of thinking. But for others it may be too idiosyncrati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Future Pl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wildcards in sear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llow editing a development version while executing stable version (row vs colum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witch to T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mplement full text search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acilitate displays of vie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..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otential Us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54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ne extreme: Tcl developer who does not care about SQL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ceivable, but many more facilities available else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ther extreme: SQLite user who does not care about Tc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1760" indent="-28296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lightly more reasonable, but again, other tool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Happy medium: User with some data and some scripts, who wants to keep and use them tog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Licens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28480" y="1463760"/>
            <a:ext cx="9072720" cy="554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tended to be released to Public Dom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(It would feel wrong to be more restrictive than SQLite itsel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QLite blessing or equivale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do good and not e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find forgiveness for yourself and forgive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y you share freely, never taking more than you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Further development encouraged, especially if kept pub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upport available--inquire with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87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erry Snyder  mesmerizerfan@gmail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(evolving) Design Go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duce dependence on proprietary s/w and data formats (MS Access, dBase 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nvenient scripting language, run on Linux and 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velop single package for all my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table/column nam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View and edit table cont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/edit/execute Tcl/SQL code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ore the program itself in the databa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d functions as the need arises (ongo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Design Driv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increment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Keep data sa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how generated SQL before COMMI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allow many combinations of Alter Table functions in a single p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ccept slower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sy to 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inimize bootstr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top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1663560"/>
            <a:ext cx="6718320" cy="542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bottom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697040" y="1685880"/>
            <a:ext cx="6743520" cy="463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1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Alte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1498680" y="1600200"/>
            <a:ext cx="718812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Pre-Tktable (edittable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1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286000" y="1384200"/>
            <a:ext cx="5537160" cy="570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236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EB: Change to Tk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2920" y="1767960"/>
            <a:ext cx="9072360" cy="499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riven by desire to improve l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ach table is editable, in its own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olved potential problem of displaying large datab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ach cell entry value from an individual SEL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afe but sl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ither specific potential problem nor iron-clad bulletproofing has been f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