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47954-E516-4946-9C4C-91D8042BA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C9BFD-D397-4CF2-8B63-BAB1E795E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629AD-5157-4817-9CF5-C1C45B5F3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D17A1-D250-43A7-B955-7361FCC13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16632-EABB-43E5-AFD7-C28084220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7DD27-3BCB-419B-95C1-D49DFEFFF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87A80-059A-4593-ADA6-FE9A925B9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40985-B9DB-4F27-80B0-5B8D188A8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2435F-156A-4794-92CB-C713E2C72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CACAA-8DE5-4064-9BB0-32181F14C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59436-2801-4E82-B33C-30EB37100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15DAF-E380-45F2-AAB6-B7B822ECC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83DE3-7AF0-4966-B21A-4DEB6A30DD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kdataserv.fis.fc.ul.pt/~jmal" TargetMode="Externa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5400" spc="-1" strike="noStrike">
                <a:solidFill>
                  <a:srgbClr val="000000"/>
                </a:solidFill>
                <a:latin typeface="Arial"/>
              </a:rPr>
              <a:t>CanvasPlu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Arial"/>
              </a:rPr>
              <a:t>An Improved Modular Canvas implementation for T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load ./libCanvasPlus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load ./modetest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canvas+ .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set canvas_interp [.c setmode modetest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set script {create rectangle 10 10 130 60 -fill red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$canvas_interp eval $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set script [gets $fd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189000"/>
            <a:ext cx="896472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load ./libCanvasPlus.so; load ./modetest.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set C [canvas+ .c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set I [$C setmode modetest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$I eval {set moving 0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$C bind all &lt;ButtonPress-1&gt; picOrDr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$C bind all &lt;ButtonRelease-1&gt; picOrDr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$C bind all &lt;Motion&gt; mo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proc move {}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$::I eval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if { $moving }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@move $prevX $prevY $_X_ $_Y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@puts move $_I_ $prevX $prevY $_X_ $_Y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set prevX $_X_; set prevY $_Y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proc picOrDrop {}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$::I eval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if { $moving }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set moving 0; @puts dro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set moving 1; set prevX $_X_; set prevY $_Y_; @puts pic $_X_ $_Y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Extension writter interf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static CP_RegisterInfo _info[] =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P_ENTRY("@puts", putsProc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P_ENTRY("@rect", rectProc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P_ENTRY("@elipse", arcProc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P_ENTRY("@move", moveProc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P_LAST_EN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static CP_ModeOps _operations =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allocProc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initProc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freeProc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drawProc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losest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567480" y="3448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763640" y="2349360"/>
            <a:ext cx="705816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typedef struct CP_RegisterInfo {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har *procNam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Tcl_ObjCmdProc *function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har *cfnam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} CP_RegisterInf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typedef ClientData CP_AllocProc(CanvasPlus *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typedef int CP_InitProc(CP_Mode *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typedef void CP_FreeProc(ClientData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typedef void CP_DrawProc(ClientData, CP_DrawOps *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P_Area *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typedef CP_Item *CP_ClosestProc(ClientData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P_Point *, doubl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Extension writter interf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# ON “load ./setmode.so” INVO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int Modetest_Init(Tcl_Interp *inter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if ( CPDefineMode("modetest1", _info,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&amp;_operations)!=TCL_OK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return TCL_ERRO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return TCL_OK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Extension writter interf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24000" y="1125000"/>
            <a:ext cx="86407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# ON “.c setmode &lt;modename&gt;” INVO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int CPSetMode(CanvasPlus *cPtr, Tcl_Obj *intName, Tcl_Obj *modeNam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CP_ModeInfo *modeInfo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CP_Mode *mod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// Create and initialize mode struc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modeInfo = CPFindMode(Tcl_GetString(modeName)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mode = (CP_Mode *)ckalloc((size_t)sizeof(CP_Mode)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324000" y="188640"/>
            <a:ext cx="84960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static void drawProc(ClientData cd, CP_DrawOps *ops, CP_Area *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MStatus *status = (MStatus *)cd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CP_Item *item = status-&gt;item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while (item != NULL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ItemType type = (ItemType)item-&gt;clientData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case ARC_ITEM: {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ArcItem *arc = (ArcItem *)item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ops-&gt;selectPen(ops-&gt;clientData, 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ops-&gt;setPenWidth(ops-&gt;clientData, 1.5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ops-&gt;drawElipse(ops-&gt;clientData, &amp;arc-&gt;limits,CP_DRAW_OUTLIN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case RECT_ITEM: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RectItem *rect = (RectItem *)item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ops-&gt;selectPen(ops-&gt;clientData, 1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ops-&gt;drawRectangle(ops-&gt;clientData, &amp;rect-&gt;limits, CP_DRAW_FILLED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ops-&gt;selectPen(ops-&gt;clientData, 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ops-&gt;setPenWidth(ops-&gt;clientData, 1.5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ops-&gt;drawRectangle(ops-&gt;clientData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&amp;rect-&gt;limits, CP_DRAW_OUTLIN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item = item-&gt;nex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6840" y="1413000"/>
            <a:ext cx="843588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Items are managed by extension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only the extension knows how to draw its i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If an event needs to know some details about the item to be properly handled, the extension must register a hoo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The core module keeps its own item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specific data is refered by an opaque poin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used for tag managment and bind comm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Item mana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Extensions make no assumptions about the device they are drawing i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All drawing is performed through the </a:t>
            </a:r>
            <a:r>
              <a:rPr b="1" lang="pt-PT" sz="3200" spc="-1" strike="noStrike">
                <a:solidFill>
                  <a:srgbClr val="000000"/>
                </a:solidFill>
                <a:latin typeface="Courier New"/>
              </a:rPr>
              <a:t>drawOps</a:t>
            </a: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is insures portability between different platforms and different output de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All dimensions used in extensions are physical meaningful and have no relation to pixe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is make the user aware of </a:t>
            </a:r>
            <a:r>
              <a:rPr b="1" lang="pt-PT" sz="2800" spc="-1" strike="noStrike">
                <a:solidFill>
                  <a:srgbClr val="000000"/>
                </a:solidFill>
                <a:latin typeface="Arial"/>
              </a:rPr>
              <a:t>printing size</a:t>
            </a: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Try it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It’s in alpha status, but it work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It will be available soon...</a:t>
            </a:r>
            <a:br>
              <a:rPr sz="3200"/>
            </a:b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at </a:t>
            </a:r>
            <a:r>
              <a:rPr b="0" lang="pt-PT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kdataserv.fis.fc.ul.pt/~jm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...it is available in my laptop, if you don’t want to wait until I find the time to update my webp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57200" y="2276280"/>
            <a:ext cx="82296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000000"/>
                </a:solidFill>
                <a:latin typeface="Arial"/>
              </a:rPr>
              <a:t>Thanks for your atten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jlima@eso.or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e</a:t>
            </a: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f the 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gular Tk Canv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active drawing possible but difficu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cl was not meant to handle complex data struc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ociation through tagging helps creating relationships between items, but this alone doesn’t overcome all the limi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advanced GUI libraries are available but ... they have no Tcl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 an alternative canvas for Tk, targetted for layered 2D drawing applica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n’t a replacement for the standard canv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cations are supposed to be coded in C/C+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figuration and GUI construction is supposed to be done in 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ular approac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re module: provides generic drawing operations; event dispatch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awing applications specific modu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How the parts fit toget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403280" y="1289160"/>
            <a:ext cx="6481800" cy="50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re Modu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s an AP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wing primitives in a 2D layered canvas abstra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able of delegating event handling: through hook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meaningful coordinate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ple output devices awa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amless zoom, pan (for display devic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lobal Scaling and Trans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assumptions about the items to be dra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Layered Canv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Wha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Layers work much like superimposed overhead projection she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Each has its own appearence: color; trace and and area filling propert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Layers can be hiden or shown individua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Wh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It is a simple concept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The layers are meaningful to broad class of drawing applic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Electronic layout edi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Electronic layout edi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Straightforward and memory efficient implementation using X graphic contex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Arial"/>
              </a:rPr>
              <a:t>Still suppor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Partly obso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Still usefull for context help or context men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Tagging code imported from standard Tk canvas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What’s n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e concept of </a:t>
            </a:r>
            <a:r>
              <a:rPr b="0" i="1" lang="pt-PT" sz="2800" spc="-1" strike="noStrike">
                <a:solidFill>
                  <a:srgbClr val="000000"/>
                </a:solidFill>
                <a:latin typeface="Arial"/>
              </a:rPr>
              <a:t>operation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e subcommand approach is used only for few, very generic 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Interaction with items is done using a slave interpr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The slave is returned by </a:t>
            </a:r>
            <a:r>
              <a:rPr b="1" lang="pt-PT" sz="2400" spc="-1" strike="noStrike">
                <a:solidFill>
                  <a:srgbClr val="000000"/>
                </a:solidFill>
                <a:latin typeface="Courier New"/>
              </a:rPr>
              <a:t>“.c setmode”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State is accessible through global variables in the dedicated slave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Items can be much more complex than a simple rectangle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CanvasPlus widget us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load ./libCanvasPlus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canvas+ .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.c subcommand 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97080" y="2852640"/>
            <a:ext cx="795312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Arial"/>
              </a:rPr>
              <a:t>Available subcommands a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bind, cget, clearmode, configure, get, modes, pan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redraw, setmode, xview, yview and zo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0T07:05:43Z</dcterms:created>
  <dc:creator>Nome de utilizador</dc:creator>
  <dc:description/>
  <dc:language>en-US</dc:language>
  <cp:lastModifiedBy>Nome de utilizador</cp:lastModifiedBy>
  <dcterms:modified xsi:type="dcterms:W3CDTF">2005-10-26T18:06:36Z</dcterms:modified>
  <cp:revision>21</cp:revision>
  <dc:subject/>
  <dc:title>CanvasPlus</dc:title>
</cp:coreProperties>
</file>