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5840" y="-144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-36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3885840" y="8830800"/>
            <a:ext cx="2971800" cy="4669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34CE-9E00-4FFA-85B9-4DC6F2D7F4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Img"/>
          </p:nvPr>
        </p:nvSpPr>
        <p:spPr>
          <a:xfrm>
            <a:off x="111240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note: intra-document refer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X = \label\r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 output: Autogenerated TOC of s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ections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seen before – Je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doing work based on customer inter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this work contracted by Cisco for their routers, embedded tc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ual markup =&gt; Comes in at the end, in the output, through the formatter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875-46FC-4E7E-8D85-22433019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2ABA-7340-41A2-9BD6-0341F516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CC40-EC52-4FBC-B416-AAEFA6CF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901-C83F-4708-A387-7C745AEA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B1D60-E384-4408-96D9-437CDF6873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18155-188A-4973-8B9D-17D6BD6D94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D47E7-ABC4-4217-8C09-27EF4F1F71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F8D03-DD3C-4996-ABFC-2CE03D38134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A797F-03B6-4B53-A0B8-F4E1E64C2F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636EA-9069-4037-A535-A373842208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BAB47-D892-40F2-87C4-63C7B9EA27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42BF-9C6F-4D94-8743-D08E0CAF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C7A9B-DE82-4A4B-9F0E-412693793C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CC9EB-E8DE-4050-81A4-D829F1327D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9724B-6429-481A-834E-51B3651267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429AE-D4EE-460D-889A-8D121983B1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FF1A5C-6B5F-4EBD-8D27-079E0B53FC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835A-BD69-4D73-97DD-A33960B0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2BBE-4F53-4804-811F-1F6B41F9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D77-3C24-4951-90CD-67909531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11D-64D2-47A6-B698-C89F2E1E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BB86-9EBC-43B8-97B9-9C2B6A74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352A-1636-4B9A-81FB-9648B254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178-0B93-443A-B75A-03A4E727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© ActiveState Corporation 2003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4686-4063-4FBF-BDC1-58E3FACBA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ftr" idx="4"/>
          </p:nvPr>
        </p:nvSpPr>
        <p:spPr>
          <a:xfrm>
            <a:off x="3152520" y="6273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BFA7-E0AF-44A3-B535-A587DB436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56386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ni.net/sdarchive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cTo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72400" cy="302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s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slave interpr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yntax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 eng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d functionality means easier maintenance of th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against bugs in format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malicious intent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C / Index Autogener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: DocTools Processor (dt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cllib, TclApps, Starkit available at    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mini.net/sdarchive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dflow_x2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7620120" cy="3333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TO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86400" cy="462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79132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true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hing for the text bas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HTML only through regular hyperlink &lt;a&gt;, not as &lt;img&gt;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true document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nclude facility for tex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variables for parame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imag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ic names, formatter selects actual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 language with graphics commands (vector drawing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utput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P, DocBook, ReST, PDF, doctools (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k Text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I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octools as intermediate format for othe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from existing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e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+ Documentation, extract the latter with a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Doc, z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al reports from code brow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Navig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William Duquette, for “Expan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Joe English, for advice and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05000"/>
            <a:ext cx="77724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ctiveState also provides flexible email management software for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upports most UNIX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xtensible in Per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pam and virus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Gateway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C’s and Ind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ations and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formats in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roff, HTML, Plain Text, XML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-BLAS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atest attempt at un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Manpage Markup Language (XML ba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XML is considered heavy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ur Solu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Tools  = Yet more form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pages, Table of Contents, Ind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ce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ptual:        LaTeX (Semantic mark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: Exp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Forge: Tcllib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(BSD) lic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: SHA1 Manp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63904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: Table of Cont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378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III: Index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17920" y="1447920"/>
            <a:ext cx="3863880" cy="464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defined output forma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(Metada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MML   - Tcl Manpage Markup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ki     - Text format, using semantic mark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s are free to define more formats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3-07-16T20:24:18Z</dcterms:modified>
  <cp:revision>444</cp:revision>
  <dc:subject/>
  <dc:title>8.4 Tcl Overview</dc:title>
</cp:coreProperties>
</file>