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75551"/>
        <c:axId val="810052"/>
      </c:barChart>
      <c:catAx>
        <c:axId val="98675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052"/>
        <c:crosses val="autoZero"/>
        <c:auto val="1"/>
        <c:lblAlgn val="ctr"/>
        <c:lblOffset val="100"/>
        <c:noMultiLvlLbl val="0"/>
      </c:catAx>
      <c:valAx>
        <c:axId val="810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75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976-950D-42FC-94C6-946C3900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83E-8FBA-42BB-B6E3-94B5A793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B4B-8168-4FC4-B514-A47F32F5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973-0318-4F2D-878D-B4DE3AEF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282-932C-4A14-8E74-FCFF178E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292-69CD-4887-A857-5FFA29E3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0DE-B78E-434D-9FA9-FDF9E916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78F-4966-4370-8746-F4C3551E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C33-B3F0-40A5-8A95-CE4A88BB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A32-9D0D-4F36-8AED-8B34D9E5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DDB-F52D-49F2-9DB8-463D1EB5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ED0-1F19-47C7-9214-54BA53ED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4EC6F-191A-4224-AB1C-8FA4ED3D07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