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14172"/>
        <c:axId val="20387834"/>
      </c:barChart>
      <c:catAx>
        <c:axId val="75514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87834"/>
        <c:crosses val="autoZero"/>
        <c:auto val="1"/>
        <c:lblAlgn val="ctr"/>
        <c:lblOffset val="100"/>
        <c:noMultiLvlLbl val="0"/>
      </c:catAx>
      <c:valAx>
        <c:axId val="20387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14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DB4-F1B5-4927-814A-7370EE26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5EC-8D2B-4328-9F84-13224B29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F70-7258-4D18-87B6-825DEFC2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EF6-36F7-4A6B-817A-14D01ABF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D6B-5984-451E-9674-769FB450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301-11F2-4B1A-BA8C-516BD66A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A03-CBD2-4DC1-B2D8-F409D2D7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E42-2972-453F-82F2-CBB1C9E7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B63-8FD1-47CB-849C-FF5118F7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CE9-B21D-4354-B01B-22E4939D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639-E2F8-43DD-885F-60A5E238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728-40AC-4CFD-9893-78B165AF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74601-883B-47C7-B0F5-D400FF831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