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90949"/>
        <c:axId val="5672910"/>
      </c:barChart>
      <c:catAx>
        <c:axId val="47490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2910"/>
        <c:crosses val="autoZero"/>
        <c:auto val="1"/>
        <c:lblAlgn val="ctr"/>
        <c:lblOffset val="100"/>
        <c:noMultiLvlLbl val="0"/>
      </c:catAx>
      <c:valAx>
        <c:axId val="5672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90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619-4915-4E19-8DDF-45BF41F8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84F-849A-418A-BE95-5779DE18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8AA-FB15-4710-A1C7-9D42BE97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6EB-D707-4A10-BBCB-B49FB87B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5C6-EF85-4CDB-8867-EE0E827E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5F1-A9A7-4F14-8CF5-D396A237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798-90EF-427A-AEF5-48898C3B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D9AE-7CD8-4908-A518-4F15B14C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344-0856-47E5-A9C9-52D7E891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079-FB61-46CF-83CC-D8EBD918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C05-11B9-4CFF-90F5-C65488F3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DE3-60EA-4445-B426-ADD82501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FDE44-5745-4B9A-8BC5-F7415EB978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