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EE8D-5C34-4BF1-BB78-84F59DD6E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F402-D82F-4535-960A-E7546EDDB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81C1-1C2A-4EFE-AB3F-0BF8174C8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4AE6-4AD8-44C1-ABEB-2694B9D83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5B35A-F1F4-486B-8F0B-855869B0A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07369-9225-4973-87E2-D0C41CFF1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28264-E427-4370-9046-46EABE14B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491DB-A975-48E4-A65B-691D83CC5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18E31-F365-44C7-8FF0-CB9DD2021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4E184-A5A7-447B-BC28-2D7EE9085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E0476-BC1C-4467-BB01-4564137E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62B2-C81F-4E71-9C4C-28A60BC97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DE315-589E-4F72-9F88-F017822E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9BE50-4DE2-4BB9-AC5B-4436982F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07880-0A2F-4F30-A1AC-753E59892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1B4E5-B5E0-4F9C-B5ED-311188BA8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E4690-0015-40F2-8A11-39D0542D8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72AB-F3B7-4F87-B437-1DCEB1A2F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8456-0B96-4F85-8F52-EB050EF5F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E0B1-5377-4541-AD21-87534AEF6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41EF-B061-4C2D-8962-C2DCEA451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55EF-B6A1-455F-A792-5B3B6463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1282-2C1A-4BA1-BA99-A636B7BD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904A-9731-49CE-ACB1-D59FF8B5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59D5A-7BA2-4BE2-9E38-E2C4A08DAE92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10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FD99E-51FB-4BE4-B05B-D49136E4B199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Creación de intros 4k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Jorge “slack” Gorb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Bernat “shash” Muño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Crear la ventana usando una clase ya existent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la clase “EDIT” que ya está registrad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 usar el parámetro de la instanc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hWnd = CreateWindow("EDIT","EDIT"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S_POPUP|WS_VISIBLE,0,0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idth,height,0,0,0,0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Generar todo el sonido durante el loading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emos sintetizador o módulo, podemos pregenerar toda la ond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es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Loading muy larg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sumo masivo de memori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o necesitamos usar un thre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Toda la reproduccion de audio se reduce a una llamada a PlaySound(...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Bucle principal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omo no usamos una clase, no tenemos el WndProc (...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emos mensaj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n bucle principal seria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while (!GetAsyncKeyState(VK_ESCAPE)) // Salimos con ES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RenderIntro 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Compresore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23640" y="2349000"/>
            <a:ext cx="83516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Solo vale la pena usar Crinkl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gramado pensando en 4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res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atibil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uy lento para 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Usa muchisima memoria al des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ecesidad de aprender como comprim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l quitar las librerías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fltused si usamos la FP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fltused = 1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l WinMain cambia por WinMainCRTStart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_declspec(noreturn) void WinMainCRTStartup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nuestro propio fto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pciones de compilació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fastcall como formato de función estandar (No siempre comprime mejor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código con optimización por Velocidad o Complet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optimizaciones globa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n la generación de código, deshabilitar “Comprobación de seguridad de buffer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Intros 4k en Linux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similares a l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Reducir el número de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mports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al mínimo (incluyendo la libc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scribir código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compressor-friendl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Gzip-dropp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rucos específic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unciones built-in (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ntrinsic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arga de libs dinámicas “a mano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sstrip (optimización de cabeceras ELF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libc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artfiles: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elimina el código de inicialización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Nuevo punto de entrada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start()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.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Debemos llamar a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()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al fina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dlib: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evitamos enlazar con la libc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mo ya no tenemos exit(), debemos definir uno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#define exit(code) \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asm(“int $0x80;”::”a”(1),”b”(code))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zip-dropp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gual que el CAB-dropping en Windows. Aprovechamos que gzip está incluido en el sistema base de cualquier distribució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#Tamaño del unpacker: 56 bytes :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a=/tmp/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tail –n+7 $0|zcat&gt;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chmod +x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rm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[ejecutable original “gzippeado”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CC Built-i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Versiones in-line optimizadas de funciones habitual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Por ejemplo: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sin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cos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memset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..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jemplo de uso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float x = __builtin_sinf(angle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-ffast-math !!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Útiles para los que no dominamos el ASM ;-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Dificultades al crear un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Linux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generales a todas las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Opciones de compila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ptimización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1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2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3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veloc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tamañ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A veces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–O</a:t>
            </a:r>
            <a:r>
              <a:rPr b="0" i="1" lang="es-ES" sz="2400" spc="-1" strike="noStrike">
                <a:solidFill>
                  <a:srgbClr val="eaeaea"/>
                </a:solidFill>
                <a:latin typeface="Courier New"/>
              </a:rPr>
              <a:t>n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genera código más pequeño (o más compresibl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astcalls” con gcc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_attribute__((regparm(n))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Hay una serie de flags que producen resultados poco predecibles al comprimir </a:t>
            </a: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i="1" lang="es-ES" sz="2400" spc="-1" strike="noStrike">
                <a:solidFill>
                  <a:srgbClr val="eaeaea"/>
                </a:solidFill>
                <a:latin typeface="Verdana"/>
              </a:rPr>
              <a:t>brute-forcing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 “gc masher”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bando versiones diferentes de GCC te puedes llevar alguna sorpresa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arga de libs dinámic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Las secciones necesarias en la cabecera ELF para importar funciones de libs dinámicas son demasiado grand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Podemos usar dlopen() y dlsym() para cargarlas nosotros mismos en tiempo de ejecució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void *handle=dlopen(“libGL.so”, RTLD_NOW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mi_glEnable = dlsym(handle, “glEnable”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SD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cluida en la instalación básica de la mayor parte de distribuciones (estándar de fact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s permite crear intros portables con un poco de cuidad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263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bjetivo: reducir el número de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imports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y llamada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hacer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backface culll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Enable(GL_CULL_FACE)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tilizar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GenTextures glGenLists.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Gestiona tú mismo los ID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 coordenadas de textura: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TexGen*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000" y="285228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sólo usamos una textura, podemos usar el ID 0 sin hacer un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BindTextu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no usamos mipmaps solo hay que definir el modo de filtrado para GL_MIN_FILT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Reutilizar cada efecto todo lo que se pueda (si puedes usar solo uno mejor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hacer casts (si no es necesario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Usar inline para las funciones que sólo se llaman una ve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A veces puede interesar reemplazar parámetros de funciones con variables global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utilizar variables para todo aquello que sea constant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repetir cálculos complejos parecid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s conveniente igualar constantes con valores parecidos (mejora la compresión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79280" y="2133720"/>
            <a:ext cx="87854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Links interesantes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Código Etram: 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collapse.scenesp.org/shash/clp_etram_src.rar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Código 4ks en linux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slack.codemaniacs.com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omepage de Fit (más fuentes de 4k en linux)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4k intro kit: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northerndragons.ca/mod.php?mod=userpage&amp;menu=2227&amp;page_id=76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ugi Coding Edition:</a:t>
            </a: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hugi.scene.org/main.php?page=hugise01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000" y="2852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ccecff"/>
                </a:solidFill>
                <a:latin typeface="Arial"/>
              </a:rPr>
              <a:t>Preguntas?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2636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Hablad ahora, o callad para siempre !!!o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(o buscadnos en #demoscene en irc-hispan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no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ntros 100% ensamblad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omo programar intros desde cer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reación de sintetizadores o similar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Direct3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tras muchas cosas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Dificultades al crear un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herramientas comerciales adecuad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soluciones direct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ecesitamos crear todos los contenidos pensando en la limitación de 4 kb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Contenidos orientados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68360" y="2565360"/>
            <a:ext cx="842472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podemos tratar los datos como en una dem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ualquier contenido no generado, ocuparía demasia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En dos palabras: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GENERAR TO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ráficos 2D/3D, música, hasta sincro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Programación orientada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ar ensamblad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ás control sobre el códig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enos productiv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ifícil de optimizar globalm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anar a un compilador es difíci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écnicas específicas de Window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Inicialización de l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Bucle princip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o del visualC para ejecutables pequeñ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55640" y="2781000"/>
            <a:ext cx="79200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y registrar una clas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nuestra ventan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el thread de sonid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para intros de 4k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la ventana usando una clase ya exist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todo el sonido durante el load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23:19:00Z</dcterms:created>
  <dc:creator>shash_prt</dc:creator>
  <dc:description/>
  <dc:language>en-US</dc:language>
  <cp:lastModifiedBy>shash_prt</cp:lastModifiedBy>
  <dcterms:modified xsi:type="dcterms:W3CDTF">2005-11-07T18:20:17Z</dcterms:modified>
  <cp:revision>8</cp:revision>
  <dc:subject/>
  <dc:title>Creación de intros 4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96765827</vt:r8>
  </property>
</Properties>
</file>