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B901-0C94-4586-BED3-056AADF11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FD69-4DA3-464D-BB77-FA17630CF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D2A1-DC93-47B4-84B5-08BDFB09F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5FB2-902A-4345-9BD2-2E3ADE713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FC2E-09BD-42B8-A067-BEABCAA47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1CE3-8DD7-4255-BF40-C8155A042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2D36-9B8A-4328-9DAE-5EC46621D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CACC-1574-4E1E-90AC-46C3FF969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9B53-A6E5-4DE4-96D8-885CE9D0A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F839-395D-42EA-A17D-0E0663EC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E638-996D-4385-A9AF-F9965537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DB51-2833-49B5-B41E-BD1DF82E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796ED-614B-451E-B057-4295F5C2F5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03T15:53:32Z</dcterms:modified>
  <cp:revision>38</cp:revision>
  <dc:subject/>
  <dc:title>PowerPoint Presentation</dc:title>
</cp:coreProperties>
</file>