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A22-B501-4FC9-A7EE-8ED5D7ED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9EB-B73B-4519-A50B-7B4B42DB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68DA-1443-4581-9688-C3D1145D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829-8BE5-49F9-998C-1A9DBC26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2E2-780D-4729-A297-6656481B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665-6862-458C-A289-8AA81512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594-CDE0-420D-9154-B52A8A97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B3C-41FB-4175-9BEF-8071D3A0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B9B-740E-45CB-AAEE-3B5B6CC5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9AF-CF7B-4DA8-9895-7F1057FB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96F-861F-42E3-B74B-0B44010C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3572-F284-474B-B882-C80B866E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A23F-CA87-45C1-B409-EB41BD031B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rtgage-site-tools.com/products/" TargetMode="External"/><Relationship Id="rId2" Type="http://schemas.openxmlformats.org/officeDocument/2006/relationships/hyperlink" Target="http://www.mortgage-site-tools.com/products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f0f"/>
                </a:solidFill>
                <a:latin typeface="Arial"/>
              </a:rPr>
              <a:t>Online mortgage calc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51"/>
                </a:solidFill>
                <a:latin typeface="Arial"/>
              </a:rPr>
              <a:t>by mortgage-site-tool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Easy real-estate math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mortization tables comes with each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Wide range of mortgage calculati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djustable interest compounding and payment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Initial values customization for any real-estat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Simple and easy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Simple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Installation takes only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Full Cascade Style Sheet (CSS)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Software is template driven and visual style can be completely re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Multi-language enabled (at this time only English language pack comes with distribu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Customizable currency symbol and numerical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3186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Want more det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413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Visit online demonstration p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8880" y="2060640"/>
            <a:ext cx="47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rtgage-site-tools.com/product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63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Place a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3240" y="3357720"/>
            <a:ext cx="44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</a:rPr>
              <a:t>http://www.mortgage-site-tools.com/ord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04044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20:43:29Z</dcterms:created>
  <dc:creator/>
  <dc:description/>
  <dc:language>en-US</dc:language>
  <cp:lastModifiedBy>Ivan</cp:lastModifiedBy>
  <dcterms:modified xsi:type="dcterms:W3CDTF">2005-04-20T22:56:31Z</dcterms:modified>
  <cp:revision>4</cp:revision>
  <dc:subject/>
  <dc:title>Online mortgage calculators presentation</dc:title>
</cp:coreProperties>
</file>