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4A8723-D4B8-448D-9523-416E08CC73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r change Makefile.in, make distclean,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DA1-6110-45C4-AA39-43A9D0DC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BDF-DBED-466E-86DB-148AB978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DB3-1DE8-4A30-9AC1-04F176C4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586-D416-4BA9-95E8-2B4A86C8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AC20-94C2-40E2-ADC0-EEB350D1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0132-63F7-46DC-8463-66CF612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9AFC-E028-4F19-AD6E-8971AEB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E818-D887-4705-A713-C499A016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F04E-E2FB-4F92-9A33-77158C6E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7792-D424-417A-93C5-760BDAA5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948-8780-4D8B-99DD-93BA0EE4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E3D-2772-4062-96AC-B3159D60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195C-BD65-4364-B8BD-8E27A940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A780-BB34-481E-86D5-7458E83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1064-E605-4A06-947B-B8D803BA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2EC7-F5C0-4976-8130-398A89F5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FA20-4087-45FC-9CFC-281342A1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4E1-10E1-406A-BAB6-7A4F7D0E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05E-F883-4EF4-874E-8CC8BC4A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F2E-3618-426E-AF49-B4445910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DDA-67D6-433C-AD30-32565CF2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0EE-3ADA-4780-B872-3E76FD9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B17-8057-4F94-824E-10C7CF4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B8B-5D08-41B4-A27A-04E26BF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DDAC-8874-4CF3-B75A-90A68E3A75C7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28E-7C2E-479B-9D63-E039F7D0003E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F997-66B4-45F1-BE98-5F54551488AB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2EBE-1D1C-4485-A419-0C86F6835B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malloc.com/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I: Extending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6824-4D76-4C28-9398-8A1465B8D0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 and trac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essage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C2C-CA7E-4F36-9E53-15CFFD28B5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for {set i 0} {$i &lt; 6} {incr i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($i)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1) 128kb 5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4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5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2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3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0) $n(1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1) $n(0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1A1-D1E4-4264-AA90-682640A78F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acket loss produced by queue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proto D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7E4-CA5B-4A5D-A931-BDA26990A4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oss traff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udp0 [new Agent/UD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2)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ull0 [new Agent/NUL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4)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udp0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xp0 [new Application/Traffic/Exponentia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set rate_ 128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attach-agent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$exp0 star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CF6-190A-4856-B208-29CC0AE0F6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ag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new Se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dr set packetSize_ 1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Receiv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rcvr set packetSize_ 4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3)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5)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sdr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rcvr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1 “$sdr send-nex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458-4C56-4A44-A67F-E630B29CD5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9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2.0 finis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9BC-7C1A-4B9C-86BE-7D3CB9D37D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Resul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outp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&gt; ./ns msg.tc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0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0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1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1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2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2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3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3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4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4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5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DDE-38B5-4F6E-9F80-8BBF17E9CA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s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6224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2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93000" y="4533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840" y="5257800"/>
            <a:ext cx="1228680" cy="401760"/>
          </a:xfrm>
          <a:prstGeom prst="wedgeRoundRectCallout">
            <a:avLst>
              <a:gd name="adj1" fmla="val 37078"/>
              <a:gd name="adj2" fmla="val -127074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65360" y="5259240"/>
            <a:ext cx="1639800" cy="403200"/>
          </a:xfrm>
          <a:prstGeom prst="wedgeRoundRectCallout">
            <a:avLst>
              <a:gd name="adj1" fmla="val 14861"/>
              <a:gd name="adj2" fmla="val -117717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6842880" y="32680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27800" y="54468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24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0" name=""/>
          <p:cNvCxnSpPr>
            <a:stCxn id="338" idx="2"/>
            <a:endCxn id="321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1" name=""/>
          <p:cNvCxnSpPr>
            <a:stCxn id="338" idx="2"/>
            <a:endCxn id="322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2" name=""/>
          <p:cNvCxnSpPr>
            <a:stCxn id="338" idx="2"/>
            <a:endCxn id="323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3" name=""/>
          <p:cNvCxnSpPr>
            <a:stCxn id="338" idx="2"/>
            <a:endCxn id="325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4" name=""/>
          <p:cNvCxnSpPr>
            <a:stCxn id="338" idx="2"/>
            <a:endCxn id="326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5" name=""/>
          <p:cNvCxnSpPr>
            <a:stCxn id="325" idx="2"/>
            <a:endCxn id="327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6" name=""/>
          <p:cNvCxnSpPr>
            <a:stCxn id="327" idx="2"/>
            <a:endCxn id="328" idx="0"/>
          </p:cNvCxnSpPr>
          <p:nvPr/>
        </p:nvCxnSpPr>
        <p:spPr>
          <a:xfrm flipH="1">
            <a:off x="1499760" y="4186080"/>
            <a:ext cx="306000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7" name=""/>
          <p:cNvCxnSpPr>
            <a:stCxn id="327" idx="2"/>
            <a:endCxn id="329" idx="0"/>
          </p:cNvCxnSpPr>
          <p:nvPr/>
        </p:nvCxnSpPr>
        <p:spPr>
          <a:xfrm flipH="1">
            <a:off x="2718720" y="4186080"/>
            <a:ext cx="184068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8" name=""/>
          <p:cNvCxnSpPr>
            <a:stCxn id="327" idx="2"/>
            <a:endCxn id="330" idx="0"/>
          </p:cNvCxnSpPr>
          <p:nvPr/>
        </p:nvCxnSpPr>
        <p:spPr>
          <a:xfrm>
            <a:off x="4559400" y="4185720"/>
            <a:ext cx="891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6296040" y="4514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27" idx="2"/>
            <a:endCxn id="349" idx="0"/>
          </p:cNvCxnSpPr>
          <p:nvPr/>
        </p:nvCxnSpPr>
        <p:spPr>
          <a:xfrm>
            <a:off x="4559400" y="4185720"/>
            <a:ext cx="2194560" cy="329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3684600" y="4545000"/>
            <a:ext cx="995400" cy="4428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y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27" idx="2"/>
            <a:endCxn id="351" idx="0"/>
          </p:cNvCxnSpPr>
          <p:nvPr/>
        </p:nvCxnSpPr>
        <p:spPr>
          <a:xfrm flipH="1">
            <a:off x="4182480" y="4185720"/>
            <a:ext cx="37692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603600" y="5257800"/>
            <a:ext cx="1157400" cy="4572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sg.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3" idx="0"/>
          </p:cNvCxnSpPr>
          <p:nvPr/>
        </p:nvCxnSpPr>
        <p:spPr>
          <a:xfrm>
            <a:off x="4182840" y="4987800"/>
            <a:ext cx="1080" cy="270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A23-E904-4E7D-94E8-BE649905C0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lib/ns-lib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ass Simula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ource ../mysrc/msg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NS_TCL_LIB =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/mysrc/msg.tcl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: change Makefile.in,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ake distcle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n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/configure --enable-debu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4B5-41CA-422C-9855-43078C6DC1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compon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4E8-87F2-4CED-9BA6-AE39B30D1C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204-4680-431F-A366-EE2C2779A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C++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ifying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ing code in new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ange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339-6C8D-4E95-ACAF-08FCC19834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w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uideli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sty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agent based on existing packet head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new packet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B2D-42C8-48A2-A9A1-07D6FA6C56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del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de position in class hierarch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.e., which class to derive from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packet header (if necessa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C++ class, fill in metho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OTcl linkag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rite OTcl cod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ild (and debug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3F8-27AE-4C81-B669-6EFC42D7DD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Agent,  Old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 jump 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de-open transmission window at the begin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+=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= MAXWIN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BFD-5713-48C2-B1A8-5BD4E704E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4940280"/>
            <a:ext cx="757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70000" y="570564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60720" y="5705640"/>
            <a:ext cx="838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69" idx="2"/>
            <a:endCxn id="370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7" name=""/>
          <p:cNvCxnSpPr>
            <a:stCxn id="369" idx="2"/>
            <a:endCxn id="371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8" name=""/>
          <p:cNvCxnSpPr>
            <a:stCxn id="368" idx="2"/>
            <a:endCxn id="369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9" name=""/>
          <p:cNvCxnSpPr>
            <a:stCxn id="370" idx="2"/>
            <a:endCxn id="376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0" name=""/>
          <p:cNvCxnSpPr>
            <a:stCxn id="370" idx="2"/>
            <a:endCxn id="372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1" name=""/>
          <p:cNvCxnSpPr>
            <a:stCxn id="370" idx="2"/>
            <a:endCxn id="374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2" name=""/>
          <p:cNvCxnSpPr>
            <a:stCxn id="370" idx="2"/>
            <a:endCxn id="377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3" name=""/>
          <p:cNvCxnSpPr>
            <a:stCxn id="371" idx="2"/>
            <a:endCxn id="373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4" name=""/>
          <p:cNvCxnSpPr>
            <a:stCxn id="371" idx="2"/>
            <a:endCxn id="375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76" idx="2"/>
            <a:endCxn id="378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76" idx="2"/>
            <a:endCxn id="379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7" name=""/>
          <p:cNvCxnSpPr>
            <a:stCxn id="374" idx="2"/>
            <a:endCxn id="380" idx="0"/>
          </p:cNvCxnSpPr>
          <p:nvPr/>
        </p:nvCxnSpPr>
        <p:spPr>
          <a:xfrm flipH="1">
            <a:off x="3047400" y="4554360"/>
            <a:ext cx="146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8" name=""/>
          <p:cNvCxnSpPr>
            <a:stCxn id="380" idx="2"/>
            <a:endCxn id="384" idx="0"/>
          </p:cNvCxnSpPr>
          <p:nvPr/>
        </p:nvCxnSpPr>
        <p:spPr>
          <a:xfrm flipH="1">
            <a:off x="2450880" y="5397480"/>
            <a:ext cx="597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9" name=""/>
          <p:cNvCxnSpPr>
            <a:stCxn id="380" idx="2"/>
            <a:endCxn id="385" idx="0"/>
          </p:cNvCxnSpPr>
          <p:nvPr/>
        </p:nvCxnSpPr>
        <p:spPr>
          <a:xfrm>
            <a:off x="3047760" y="5397480"/>
            <a:ext cx="43236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0" name=""/>
          <p:cNvCxnSpPr>
            <a:stCxn id="377" idx="2"/>
            <a:endCxn id="381" idx="0"/>
          </p:cNvCxnSpPr>
          <p:nvPr/>
        </p:nvCxnSpPr>
        <p:spPr>
          <a:xfrm flipH="1">
            <a:off x="4190400" y="4554360"/>
            <a:ext cx="1371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1" name=""/>
          <p:cNvCxnSpPr>
            <a:stCxn id="377" idx="2"/>
            <a:endCxn id="382" idx="0"/>
          </p:cNvCxnSpPr>
          <p:nvPr/>
        </p:nvCxnSpPr>
        <p:spPr>
          <a:xfrm>
            <a:off x="4327200" y="4554360"/>
            <a:ext cx="62604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2" name=""/>
          <p:cNvCxnSpPr>
            <a:stCxn id="377" idx="2"/>
            <a:endCxn id="383" idx="0"/>
          </p:cNvCxnSpPr>
          <p:nvPr/>
        </p:nvCxnSpPr>
        <p:spPr>
          <a:xfrm>
            <a:off x="4327200" y="4554360"/>
            <a:ext cx="153900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4224240" y="569916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J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80" idx="2"/>
            <a:endCxn id="403" idx="0"/>
          </p:cNvCxnSpPr>
          <p:nvPr/>
        </p:nvCxnSpPr>
        <p:spPr>
          <a:xfrm>
            <a:off x="3048120" y="5397480"/>
            <a:ext cx="1519920" cy="302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FBC-F7A9-4EF6-A48A-DA8FE726918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JSTCPAgent : public TcpAgent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virtual void set_initial_window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wnd_ =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nt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02A-0FDD-4E5C-B288-238DF1BE5F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c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JSTcpClass : public Tcl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Class() : TclClass("Agent/TCP/JS") {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Object* create(int, const char*const*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(new JSTcpAgent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Agent::JS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MAXWIN_”, MAXWIN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5B9-9967-4F2E-A7E8-C3DD3C86DF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tracing support of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static class for OTcl linkage (packet.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new header in OTcl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his does not apply when you add a new field into an existing header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7A2-D90E-4C1C-B4B4-A1487C21E6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Packet Header Wor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280160" y="16509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36600" y="2070000"/>
            <a:ext cx="1087200" cy="1239480"/>
            <a:chOff x="1236600" y="2070000"/>
            <a:chExt cx="1087200" cy="1239480"/>
          </a:xfrm>
        </p:grpSpPr>
        <p:sp>
          <p:nvSpPr>
            <p:cNvPr id="414" name=""/>
            <p:cNvSpPr/>
            <p:nvPr/>
          </p:nvSpPr>
          <p:spPr>
            <a:xfrm>
              <a:off x="1236600" y="2070000"/>
              <a:ext cx="1087200" cy="4147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nex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6600" y="248256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drlen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6600" y="289512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its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645000" y="2730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45000" y="3792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45000" y="4854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56520" y="5931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2743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74760" y="29732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cm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3400" y="3805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99960" y="4035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26360" y="4867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0760" y="50976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5600" y="3079800"/>
            <a:ext cx="13194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1200" y="3846600"/>
            <a:ext cx="2635200" cy="1584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rtup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(PacketHeaderManag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15" idx="1"/>
            <a:endCxn id="428" idx="0"/>
          </p:cNvCxnSpPr>
          <p:nvPr/>
        </p:nvCxnSpPr>
        <p:spPr>
          <a:xfrm flipH="1" flipV="1" rot="10800000">
            <a:off x="1235520" y="2689560"/>
            <a:ext cx="862920" cy="1156680"/>
          </a:xfrm>
          <a:prstGeom prst="bentConnector4">
            <a:avLst>
              <a:gd name="adj1" fmla="val -26502"/>
              <a:gd name="adj2" fmla="val 72633"/>
            </a:avLst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30" name=""/>
          <p:cNvGrpSpPr/>
          <p:nvPr/>
        </p:nvGrpSpPr>
        <p:grpSpPr>
          <a:xfrm>
            <a:off x="3416040" y="1816200"/>
            <a:ext cx="5137560" cy="3197160"/>
            <a:chOff x="3416040" y="1816200"/>
            <a:chExt cx="5137560" cy="3197160"/>
          </a:xfrm>
        </p:grpSpPr>
        <p:grpSp>
          <p:nvGrpSpPr>
            <p:cNvPr id="431" name=""/>
            <p:cNvGrpSpPr/>
            <p:nvPr/>
          </p:nvGrpSpPr>
          <p:grpSpPr>
            <a:xfrm>
              <a:off x="5459400" y="1816200"/>
              <a:ext cx="3094200" cy="3197160"/>
              <a:chOff x="5459400" y="1816200"/>
              <a:chExt cx="3094200" cy="31971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5459400" y="1816200"/>
                <a:ext cx="3094200" cy="873000"/>
                <a:chOff x="5459400" y="1816200"/>
                <a:chExt cx="3094200" cy="873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459400" y="1816200"/>
                  <a:ext cx="3094200" cy="873000"/>
                </a:xfrm>
                <a:prstGeom prst="cloudCallout">
                  <a:avLst>
                    <a:gd name="adj1" fmla="val -40509"/>
                    <a:gd name="adj2" fmla="val 80365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746320" y="2023920"/>
                  <a:ext cx="260100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Common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626080" y="3246480"/>
                <a:ext cx="2637000" cy="752400"/>
                <a:chOff x="5626080" y="3246480"/>
                <a:chExt cx="2637000" cy="752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626080" y="324648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29200" y="3454560"/>
                  <a:ext cx="18968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I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11760" y="4260960"/>
                <a:ext cx="2637000" cy="752400"/>
                <a:chOff x="5711760" y="4260960"/>
                <a:chExt cx="2637000" cy="752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760" y="426096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011640" y="4469040"/>
                  <a:ext cx="20642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TC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41" name=""/>
            <p:cNvCxnSpPr>
              <a:stCxn id="428" idx="3"/>
              <a:endCxn id="433" idx="0"/>
            </p:cNvCxnSpPr>
            <p:nvPr/>
          </p:nvCxnSpPr>
          <p:spPr>
            <a:xfrm flipV="1">
              <a:off x="3416040" y="2252160"/>
              <a:ext cx="2053080" cy="2386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28" idx="3"/>
              <a:endCxn id="436" idx="0"/>
            </p:cNvCxnSpPr>
            <p:nvPr/>
          </p:nvCxnSpPr>
          <p:spPr>
            <a:xfrm flipV="1">
              <a:off x="3416400" y="3622320"/>
              <a:ext cx="2218320" cy="1016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28" idx="3"/>
              <a:endCxn id="439" idx="0"/>
            </p:cNvCxnSpPr>
            <p:nvPr/>
          </p:nvCxnSpPr>
          <p:spPr>
            <a:xfrm flipV="1">
              <a:off x="3416400" y="4636800"/>
              <a:ext cx="230400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1C7-E4A0-4AC2-892F-62407C789E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96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packet header for 64-byte 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transport agent to process this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EFE-EDD8-4992-90CE-3555C763E2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Directory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572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50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16280" y="45403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16800" y="4546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0640" y="5243400"/>
            <a:ext cx="1228680" cy="401760"/>
          </a:xfrm>
          <a:prstGeom prst="wedgeRoundRectCallout">
            <a:avLst>
              <a:gd name="adj1" fmla="val 40310"/>
              <a:gd name="adj2" fmla="val -124703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78160" y="5245200"/>
            <a:ext cx="1639800" cy="403200"/>
          </a:xfrm>
          <a:prstGeom prst="wedgeRoundRectCallout">
            <a:avLst>
              <a:gd name="adj1" fmla="val 14861"/>
              <a:gd name="adj2" fmla="val -13070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66680" y="32806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51600" y="54594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2"/>
            <a:endCxn id="235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1" name=""/>
          <p:cNvCxnSpPr>
            <a:stCxn id="249" idx="2"/>
            <a:endCxn id="232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2" name=""/>
          <p:cNvCxnSpPr>
            <a:stCxn id="249" idx="2"/>
            <a:endCxn id="233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3" name=""/>
          <p:cNvCxnSpPr>
            <a:stCxn id="249" idx="2"/>
            <a:endCxn id="234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4" name=""/>
          <p:cNvCxnSpPr>
            <a:stCxn id="249" idx="2"/>
            <a:endCxn id="236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5" name=""/>
          <p:cNvCxnSpPr>
            <a:stCxn id="249" idx="2"/>
            <a:endCxn id="237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6" name=""/>
          <p:cNvCxnSpPr>
            <a:stCxn id="236" idx="2"/>
            <a:endCxn id="238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7" name=""/>
          <p:cNvCxnSpPr>
            <a:stCxn id="238" idx="2"/>
            <a:endCxn id="239" idx="0"/>
          </p:cNvCxnSpPr>
          <p:nvPr/>
        </p:nvCxnSpPr>
        <p:spPr>
          <a:xfrm flipH="1">
            <a:off x="2212560" y="4185720"/>
            <a:ext cx="234720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8" name=""/>
          <p:cNvCxnSpPr>
            <a:stCxn id="238" idx="2"/>
            <a:endCxn id="240" idx="0"/>
          </p:cNvCxnSpPr>
          <p:nvPr/>
        </p:nvCxnSpPr>
        <p:spPr>
          <a:xfrm flipH="1">
            <a:off x="3431520" y="4185720"/>
            <a:ext cx="112788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9" name=""/>
          <p:cNvCxnSpPr>
            <a:stCxn id="238" idx="2"/>
            <a:endCxn id="241" idx="0"/>
          </p:cNvCxnSpPr>
          <p:nvPr/>
        </p:nvCxnSpPr>
        <p:spPr>
          <a:xfrm>
            <a:off x="4559400" y="4186080"/>
            <a:ext cx="514440" cy="3549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5919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38" idx="2"/>
            <a:endCxn id="260" idx="0"/>
          </p:cNvCxnSpPr>
          <p:nvPr/>
        </p:nvCxnSpPr>
        <p:spPr>
          <a:xfrm>
            <a:off x="4559040" y="4185720"/>
            <a:ext cx="1818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E35-5111-4695-A4C6-08414BEE63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ruct hdr_msg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msg_[64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int offset_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line static int&amp; offset() { return offset_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inline static hdr_msg* access(Packet* p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return (hdr_msg*) p-&gt;access(offset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* per-field member functions */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* msg() { return (msg_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maxmsg() { return (sizeof(msg_)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63D-E8A5-4074-BC12-DADC848721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Header/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class MessageHeaderClass 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 PacketHeader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essageHeaderClass() : PacketHeaderClass("PacketHeader/Message"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izeof(hdr_msg)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_offset(&amp;hdr_msg::offset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class_msghd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B22-09DA-41DB-B2B2-891145430D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cing (packet.h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enum packet_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TCP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MESSAG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NTYPE // This MUST be the LAST 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p_info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MESSAGE] = “message”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NTYPE]= "undefined"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FBB-5CA3-45F6-A007-72B58989E6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gister new header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each pair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Common off_cmn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Message off_msg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91B-9341-414E-BE77-1031FA651E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Header: Ca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me old code, e.g.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tpAgent::Rt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off_rtp_”, &amp;off_rtp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hdr_rtp* rh = (hdr_rtp*)p-&gt;access(off_rtp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on’t follow this example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62E-788B-4429-B6EC-668C5D6363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796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4820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1032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48400" y="4938840"/>
            <a:ext cx="757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90800" y="5705640"/>
            <a:ext cx="7617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81160" y="570564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58" idx="2"/>
            <a:endCxn id="459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6" name=""/>
          <p:cNvCxnSpPr>
            <a:stCxn id="458" idx="2"/>
            <a:endCxn id="460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7" name=""/>
          <p:cNvCxnSpPr>
            <a:stCxn id="457" idx="2"/>
            <a:endCxn id="458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8" name=""/>
          <p:cNvCxnSpPr>
            <a:stCxn id="459" idx="2"/>
            <a:endCxn id="465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9" name=""/>
          <p:cNvCxnSpPr>
            <a:stCxn id="459" idx="2"/>
            <a:endCxn id="461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0" name=""/>
          <p:cNvCxnSpPr>
            <a:stCxn id="459" idx="2"/>
            <a:endCxn id="463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1" name=""/>
          <p:cNvCxnSpPr>
            <a:stCxn id="459" idx="2"/>
            <a:endCxn id="466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2" name=""/>
          <p:cNvCxnSpPr>
            <a:stCxn id="460" idx="2"/>
            <a:endCxn id="462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3" name=""/>
          <p:cNvCxnSpPr>
            <a:stCxn id="460" idx="2"/>
            <a:endCxn id="464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4" name=""/>
          <p:cNvCxnSpPr>
            <a:stCxn id="465" idx="2"/>
            <a:endCxn id="467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5" name=""/>
          <p:cNvCxnSpPr>
            <a:stCxn id="465" idx="2"/>
            <a:endCxn id="468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63" idx="2"/>
            <a:endCxn id="469" idx="0"/>
          </p:cNvCxnSpPr>
          <p:nvPr/>
        </p:nvCxnSpPr>
        <p:spPr>
          <a:xfrm flipH="1">
            <a:off x="2860200" y="4554360"/>
            <a:ext cx="33408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69" idx="2"/>
            <a:endCxn id="473" idx="0"/>
          </p:cNvCxnSpPr>
          <p:nvPr/>
        </p:nvCxnSpPr>
        <p:spPr>
          <a:xfrm flipH="1">
            <a:off x="2371320" y="5397480"/>
            <a:ext cx="489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8" name=""/>
          <p:cNvCxnSpPr>
            <a:stCxn id="469" idx="2"/>
            <a:endCxn id="474" idx="0"/>
          </p:cNvCxnSpPr>
          <p:nvPr/>
        </p:nvCxnSpPr>
        <p:spPr>
          <a:xfrm>
            <a:off x="2860560" y="5397480"/>
            <a:ext cx="54072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9" name=""/>
          <p:cNvCxnSpPr>
            <a:stCxn id="466" idx="2"/>
            <a:endCxn id="470" idx="0"/>
          </p:cNvCxnSpPr>
          <p:nvPr/>
        </p:nvCxnSpPr>
        <p:spPr>
          <a:xfrm>
            <a:off x="4327200" y="4554360"/>
            <a:ext cx="92628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0" name=""/>
          <p:cNvCxnSpPr>
            <a:stCxn id="466" idx="2"/>
            <a:endCxn id="471" idx="0"/>
          </p:cNvCxnSpPr>
          <p:nvPr/>
        </p:nvCxnSpPr>
        <p:spPr>
          <a:xfrm>
            <a:off x="4327200" y="4554360"/>
            <a:ext cx="168804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66" idx="2"/>
            <a:endCxn id="472" idx="0"/>
          </p:cNvCxnSpPr>
          <p:nvPr/>
        </p:nvCxnSpPr>
        <p:spPr>
          <a:xfrm>
            <a:off x="4327200" y="4554360"/>
            <a:ext cx="260100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3363840" y="4940280"/>
            <a:ext cx="146376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63" idx="2"/>
            <a:endCxn id="492" idx="0"/>
          </p:cNvCxnSpPr>
          <p:nvPr/>
        </p:nvCxnSpPr>
        <p:spPr>
          <a:xfrm>
            <a:off x="3193560" y="4554360"/>
            <a:ext cx="902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A16-C74F-40CB-8714-F2BD9AA61E9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class defini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Standard split object declar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MessageAgent : public Agen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MessageAgent() : Agent(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PT_MESSAG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) {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void recv(Packet*, Handler*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882-AB86-4B9D-9581-2FA79F26ED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s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nt MessageAgent::command(int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f (strcmp(argv[1], "send") == 0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Packet* pkt = allocpkt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// We ignore message size check..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trcpy(mh-&gt;msg(), argv[2]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end(pkt, 0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TCL_OK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Agent::command(argc, argv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CF9-C6DC-410B-8E03-8D1E0BECEA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rece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oid MessageAgent::recv(Packet* pkt, Handler*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OTcl callbac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wrk[128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printf(wrk, "%s recv {%s}", name(), mh-&gt;msg()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.eval(wr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acket::free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973-ED8A-44AE-A620-CA39148725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ugging: OTcl/C++, 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itfal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C1E-CAC8-48C3-9C30-A8F2E642EF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you don’t want to comp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ourc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our changes in your sim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wi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ying code; 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ing new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nge Makefile (NS_TCL_LIB), 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505-DD6D-4383-A5CF-83B0EE954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C++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/OTcl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925-A6CF-4B63-9D50-8F15F82AE7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ual techni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reak inside comma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not examine states inside OTcl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cute tcl-debug inside gd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33C-7AF0-412D-B990-484DE49A3A7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all Tcl::instance().eval(“debug 1”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3&gt; 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*0: appli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4&gt; Simulator info instanc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_o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5&gt; _o1 no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6&gt; # and other fun stuff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7&gt;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whe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0 0x102218 in write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7A9-F31F-44F0-A27E-4121D51EBDA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Debugging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0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PURIFY macro in ns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lly, put -colloctor=&lt;ld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ay Watson’s dmalloc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www.dmalloc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istcle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dmalloc=&lt;dmalloc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yze results: dmalloc_summar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758-A1FB-400F-8C0E-13958ED47F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malloc: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dmallo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ias dmalloc ’eval ‘\dmalloc –C \!*`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 -l log 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malloc_summarize ns &lt; logf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must be in current direc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emize how much memory is allocated in each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4F4-1EDE-43B2-8368-972A135954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vs flex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, how to write scalable simulat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conservation t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lea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A35-B96A-43DD-B70A-F1AEDCBD26D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alability vs Flexi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s tempting to write all-OTcl sim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nefit: quick prototyp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: memory +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 the granularity of your split object by migrating methods from OTcl to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5C8-D98F-440D-A9FA-8FBBF5B6728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erit of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833400" y="2438280"/>
            <a:ext cx="7804080" cy="609840"/>
          </a:xfrm>
          <a:custGeom>
            <a:avLst/>
            <a:gdLst>
              <a:gd name="textAreaLeft" fmla="*/ 264240 w 7804080"/>
              <a:gd name="textAreaRight" fmla="*/ 7539840 w 7804080"/>
              <a:gd name="textAreaTop" fmla="*/ 108000 h 609840"/>
              <a:gd name="textAreaBottom" fmla="*/ 5018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3825"/>
                </a:moveTo>
                <a:lnTo>
                  <a:pt x="20467" y="3825"/>
                </a:lnTo>
                <a:lnTo>
                  <a:pt x="20467" y="0"/>
                </a:lnTo>
                <a:lnTo>
                  <a:pt x="21600" y="10800"/>
                </a:lnTo>
                <a:lnTo>
                  <a:pt x="20467" y="21600"/>
                </a:lnTo>
                <a:lnTo>
                  <a:pt x="20467" y="17775"/>
                </a:lnTo>
                <a:lnTo>
                  <a:pt x="0" y="17775"/>
                </a:lnTo>
                <a:lnTo>
                  <a:pt x="732" y="10800"/>
                </a:lnTo>
                <a:lnTo>
                  <a:pt x="0" y="382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29400" y="1795320"/>
            <a:ext cx="49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gram size, complex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40280" y="3652920"/>
            <a:ext cx="4548240" cy="140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3232080"/>
            <a:ext cx="441936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36800" y="319104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/C++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96440" y="315288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OTc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8440" y="4724280"/>
            <a:ext cx="797724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oothly adjust the granularity of scripting to balance extensibility and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th complete compatibility with existing simulation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569880" y="1959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80840" y="18972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13080" y="4351320"/>
            <a:ext cx="4548240" cy="144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21000" y="376704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split objec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4AE-65FE-4201-92DC-71D452E69E1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 Granularity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ction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-packet processing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, frequently changing cod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x/large data structur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-time configuration variabl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09B-B6F9-463F-A2C8-E2549016ED9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Conservation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race-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arrays for a sequence of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$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say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($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OTcl temporary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dynamic bind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ay_bind()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bi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e object.{h,cc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B26-CB26-4E6D-9B91-D46053D7C47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52760" y="3441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43400" y="34434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2240" y="4383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9708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7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5" idx="6"/>
            <a:endCxn id="266" idx="2"/>
          </p:cNvCxnSpPr>
          <p:nvPr/>
        </p:nvCxnSpPr>
        <p:spPr>
          <a:xfrm>
            <a:off x="3990600" y="3711600"/>
            <a:ext cx="12531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2" name=""/>
          <p:cNvCxnSpPr>
            <a:stCxn id="265" idx="2"/>
            <a:endCxn id="269" idx="5"/>
          </p:cNvCxnSpPr>
          <p:nvPr/>
        </p:nvCxnSpPr>
        <p:spPr>
          <a:xfrm flipH="1" flipV="1">
            <a:off x="2655360" y="3046320"/>
            <a:ext cx="797760" cy="665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3" name=""/>
          <p:cNvCxnSpPr>
            <a:stCxn id="265" idx="2"/>
            <a:endCxn id="270" idx="7"/>
          </p:cNvCxnSpPr>
          <p:nvPr/>
        </p:nvCxnSpPr>
        <p:spPr>
          <a:xfrm flipH="1">
            <a:off x="2655360" y="371124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4" name=""/>
          <p:cNvCxnSpPr>
            <a:stCxn id="266" idx="6"/>
            <a:endCxn id="267" idx="3"/>
          </p:cNvCxnSpPr>
          <p:nvPr/>
        </p:nvCxnSpPr>
        <p:spPr>
          <a:xfrm flipV="1">
            <a:off x="5781600" y="3045960"/>
            <a:ext cx="699120" cy="66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5" name=""/>
          <p:cNvCxnSpPr>
            <a:stCxn id="266" idx="6"/>
            <a:endCxn id="268" idx="1"/>
          </p:cNvCxnSpPr>
          <p:nvPr/>
        </p:nvCxnSpPr>
        <p:spPr>
          <a:xfrm>
            <a:off x="5781240" y="3713040"/>
            <a:ext cx="700920" cy="750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920760" y="332568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28Kb, 5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606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60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80920" y="2587680"/>
            <a:ext cx="7475760" cy="1196640"/>
            <a:chOff x="880920" y="2587680"/>
            <a:chExt cx="7475760" cy="1196640"/>
          </a:xfrm>
        </p:grpSpPr>
        <p:grpSp>
          <p:nvGrpSpPr>
            <p:cNvPr id="280" name=""/>
            <p:cNvGrpSpPr/>
            <p:nvPr/>
          </p:nvGrpSpPr>
          <p:grpSpPr>
            <a:xfrm>
              <a:off x="987480" y="2587680"/>
              <a:ext cx="7369200" cy="538200"/>
              <a:chOff x="987480" y="2587680"/>
              <a:chExt cx="7369200" cy="538200"/>
            </a:xfrm>
          </p:grpSpPr>
          <p:sp>
            <p:nvSpPr>
              <p:cNvPr id="281" name=""/>
              <p:cNvSpPr/>
              <p:nvPr/>
            </p:nvSpPr>
            <p:spPr>
              <a:xfrm>
                <a:off x="987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8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83" name=""/>
              <p:cNvCxnSpPr>
                <a:stCxn id="281" idx="6"/>
                <a:endCxn id="269" idx="2"/>
              </p:cNvCxnSpPr>
              <p:nvPr/>
            </p:nvCxnSpPr>
            <p:spPr>
              <a:xfrm>
                <a:off x="1525320" y="2857320"/>
                <a:ext cx="6721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84" name=""/>
              <p:cNvCxnSpPr>
                <a:stCxn id="282" idx="2"/>
                <a:endCxn id="267" idx="6"/>
              </p:cNvCxnSpPr>
              <p:nvPr/>
            </p:nvCxnSpPr>
            <p:spPr>
              <a:xfrm flipH="1">
                <a:off x="6938280" y="2857320"/>
                <a:ext cx="88020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85" name=""/>
            <p:cNvSpPr/>
            <p:nvPr/>
          </p:nvSpPr>
          <p:spPr>
            <a:xfrm>
              <a:off x="880920" y="3141720"/>
              <a:ext cx="81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os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traffi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35760" y="4349880"/>
            <a:ext cx="7734240" cy="963360"/>
            <a:chOff x="635760" y="4349880"/>
            <a:chExt cx="7734240" cy="963360"/>
          </a:xfrm>
        </p:grpSpPr>
        <p:grpSp>
          <p:nvGrpSpPr>
            <p:cNvPr id="287" name=""/>
            <p:cNvGrpSpPr/>
            <p:nvPr/>
          </p:nvGrpSpPr>
          <p:grpSpPr>
            <a:xfrm>
              <a:off x="1001520" y="4349880"/>
              <a:ext cx="7368480" cy="538200"/>
              <a:chOff x="1001520" y="4349880"/>
              <a:chExt cx="7368480" cy="538200"/>
            </a:xfrm>
          </p:grpSpPr>
          <p:sp>
            <p:nvSpPr>
              <p:cNvPr id="288" name=""/>
              <p:cNvSpPr/>
              <p:nvPr/>
            </p:nvSpPr>
            <p:spPr>
              <a:xfrm>
                <a:off x="100152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3216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90" name=""/>
              <p:cNvCxnSpPr>
                <a:stCxn id="288" idx="6"/>
              </p:cNvCxnSpPr>
              <p:nvPr/>
            </p:nvCxnSpPr>
            <p:spPr>
              <a:xfrm>
                <a:off x="1539360" y="4619520"/>
                <a:ext cx="671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91" name=""/>
              <p:cNvCxnSpPr>
                <a:stCxn id="289" idx="2"/>
              </p:cNvCxnSpPr>
              <p:nvPr/>
            </p:nvCxnSpPr>
            <p:spPr>
              <a:xfrm flipH="1">
                <a:off x="6952320" y="4619520"/>
                <a:ext cx="87984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92" name=""/>
            <p:cNvSpPr/>
            <p:nvPr/>
          </p:nvSpPr>
          <p:spPr>
            <a:xfrm>
              <a:off x="635760" y="494496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msg ag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8AF-79E2-4D5C-B016-20A09C62E4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Lea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 or dmalloc, but be careful about split object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 {set i 0} {$i &lt; 500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 [new RandomVariable/Constant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leaks memory, but can’t be detecte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icitly delete EVERY split object that was new-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B0C-97B4-47FC-80BE-B846E9235C9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al Wo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extended ns dumps OTcl script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d the last 10-20 lines of the dum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the error related to “_o*** cmd …”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eck your command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, check the otcl script pointed by the erro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D40-B996-42C9-9207-ECA7C2BC83E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0D6-1C71-4F25-83FC-E43D53F42C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e sen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Send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Message format: “Addr Op SeqNo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instproc send-next {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self instvar seq_ agent_addr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$self send “$agent_addr_ send $seq_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cr seq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global 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[expr [$ns now]+0.1] "$self send-nex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615-F73C-42EE-81CE-3D1AD3AB4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send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nd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Sender gets ack $seq from $sdr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4E4-B6D2-4277-97C9-40A0EE8A2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receiv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Receiv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ceiv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“Receiver gets seq $seq from $sd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self send “$addr_ ack $seq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26C-48D0-4F04-A563-46B71FC3BC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40:44Z</dcterms:modified>
  <cp:revision>676</cp:revision>
  <dc:subject/>
  <dc:title>ns-2 tutorial for IEC'00 workshop</dc:title>
</cp:coreProperties>
</file>