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ADC-5A1B-4C94-BEF9-D507FBD0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194-6858-4EB8-9869-D9684D3E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2B91-96F0-4D0A-9CD7-C29097BA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944-9988-41D0-8DD8-84F78A02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C50E-D0F5-4995-9231-1CE6699C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B99C-7DCC-4A0F-88BF-7EAA7BCD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532B-6B38-4416-897F-5000E147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FB50-7CE7-400D-B80C-16C94C5F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B331-E4F7-4DC0-84FF-65494CE1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23DA-A05C-452B-BAEE-FCD7EBCF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9039-ABB5-454F-9247-FD24BC55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1342-A5B4-42CE-836B-96374603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0D0F-4A19-4CC1-8F53-E816FB19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2206-6D01-4169-ABFB-9C3551CE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CD27-94A0-43DA-8FCF-7EA6C2DD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39DF-DEED-45D8-8EFB-0436D244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DE32-3B40-43E6-8020-5A562777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341-9CC1-4CED-9AB5-79A9D0BC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28C8-5A43-4BB0-8DD5-9A79FA69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EC8-EBD4-4B11-8E89-E0B20A17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79A-42FA-45C4-AA34-AE0173AB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D08-72A0-4F10-BC74-30F57CD4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85C-CE14-4B44-AAC2-2AF1BF62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430-5AF8-419F-B019-1BB2FA05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898C-935C-4CD2-AEA0-CC4951C769EB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B178-144E-4A53-9E35-ED0B3CAC3461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AF7A-43ED-4076-8C71-1039DED4839F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A6B9-EA1A-4741-99D5-64F6DFEB251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ev.scriptics.com/" TargetMode="External"/><Relationship Id="rId3" Type="http://schemas.openxmlformats.org/officeDocument/2006/relationships/hyperlink" Target="http://www.isi.edu/nsnam/dist" TargetMode="External"/><Relationship Id="rId4" Type="http://schemas.openxmlformats.org/officeDocument/2006/relationships/hyperlink" Target="http://www.isi.edu/nsnam/dist" TargetMode="External"/><Relationship Id="rId5" Type="http://schemas.openxmlformats.org/officeDocument/2006/relationships/hyperlink" Target="http://www.isi.edu/nsnam/dis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mailto:ns-users@isi.edu" TargetMode="External"/><Relationship Id="rId4" Type="http://schemas.openxmlformats.org/officeDocument/2006/relationships/hyperlink" Target="mailto:ns-users@isi.edu" TargetMode="External"/><Relationship Id="rId5" Type="http://schemas.openxmlformats.org/officeDocument/2006/relationships/hyperlink" Target="mailto:ns-users@isi.edu" TargetMode="External"/><Relationship Id="rId6" Type="http://schemas.openxmlformats.org/officeDocument/2006/relationships/hyperlink" Target="mailto:ns-users@mash.cs.berkeley.edu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-2 Tutorial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obo Yu, Nader Saleh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C/IS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haoboy,salehi}@isi.ed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EA76-FD6B-4BF9-91F1-2084CF0C85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Tcl (Tool Command Language)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ttp://dev.scriptics.com/scrip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OTcl (MIT Object Tcl)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~otcl/doc/tutorial.html (in distributio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 manu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cluded in distribution: ~ns/d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www.isi.edu/~salehi/ns_doc.ps.gz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9E55-20C8-489A-8586-9F1FD57CEA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au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ople tried best to validate ns with regression tes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Howeve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 abstraction of the real world is necessary for a si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5000"/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ou must justify the usage of this simulator based on your research go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8E2-A7B9-41C7-8059-EC2CA10D03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orkshop 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pability of the si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sign and implement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lete examples of its u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 try to avoid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tailed research resul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02FB-CF3B-4994-B920-26755F790B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orkshop Schedu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y 1: OTcl-based simul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undamentals: wired and wireless worl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pporting too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y 2: C++ and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s inter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tending 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2AD-8CBC-419B-B318-BF64FA72A4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story and Stat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rs from approximate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00 institut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0 countr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lea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iodic releases (currently 2.1b6, Jan 2000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ightly snapshots (probably compiles and works, but “unstable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vailable from: USC/ISI, UC Berkeley, UK mirr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EAB2-96F5-4E5D-A667-FE66CB06AF1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tionality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int-to-point link, LA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cast/multicast rou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po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bile I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 hoc rou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cing, visualization, various util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DD6D-7683-4D18-82FB-E2AAB7D4B636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ject goals and stat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istory and stat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minar sched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0ED-B272-491D-836C-58CB5304BA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NT: Virtual InterNet Testb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collaborativ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simulation platfor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vide common reference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romote shar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 suites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ncrease confidence in resul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nded aud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earch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velop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ducato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E2FF-A73B-4520-8DDF-A20B59A8EB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crete event si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-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 layer and 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red and wirele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E63-4234-4448-B9AA-A46D5D0401F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story and Stat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umbia NE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CB RE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-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-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00K lines of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70K lines of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0K lines of test sui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0K lines of document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E46F-FDF6-4173-93B0-CF70180288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tfor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st UNIX and UNIX-like system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eeBSD or *BS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ux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n Solar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Symbol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P, SG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ndow 95/98/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me work, some does no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(Emulation only for FreeBSD for now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B57-FE48-46CA-8858-E69B461812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lated Research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784160"/>
            <a:ext cx="77724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serv/diffserv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liable multica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gestion contro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b cach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ltimed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737-3B89-417C-8D4E-1E02167A93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stal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tting the pie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/TK 8.x (8.0.5 preferred): 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dev.scriptics.com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cl, TclCL, ns-2, nam-1: 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http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://www.isi.edu/nsnam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di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her utiliti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www.isi.edu/nsnam/ns/ns-build.htm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-debug, GT-ITM, xgraph,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BCF-C2C3-4317-BC20-1280333253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tting Hel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ns-2 build question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www.isi.edu/nsnam/ns/ns-build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ns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-users@isi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edu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(previously 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ns-users@mash.cs.berkeley.edu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s-users-request@isi.ed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bscribe ns-users” in bo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chive: http://www.isi.edu/nsnam/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E7A-B392-4C3F-9F3A-7203E934E4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6-27T16:47:47Z</dcterms:modified>
  <cp:revision>643</cp:revision>
  <dc:subject/>
  <dc:title>ns-2 tutorial for IEC'00 workshop</dc:title>
</cp:coreProperties>
</file>