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A007-2995-4D07-9DBD-F6D8E0592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FD2C-7C67-487F-ACA1-24D5541A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9EB4-A678-4471-89F1-9C41AD60C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BA21-27BA-4D36-83BC-A75EFA050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B172-01EA-4A53-9B6A-4B0B570B6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495C-46C1-4B2E-9786-8E01A8DF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E219-939B-4522-91E2-6E66F22D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683A-8059-494E-9D06-7D4DF406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03D8-DB52-4C37-8152-86FE01D0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754A-16CB-4436-A562-28AB30B7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B18C-BFB0-42A0-B19A-9C350AF3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1CA3-9F38-4F9E-9BE0-6AF4C82B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4B37-EEBA-42CA-9616-E817843A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A0E8-7CA0-4161-A0AA-699D3BE4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8E7E-8EBB-41A7-963C-536F7415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8B53-ABEC-4D49-8A3C-5DAE26C30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F2A3-B041-4C67-991A-BD89338CD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F6D0-A894-4669-9662-E726AC4E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FA07-2E9D-4265-B07F-36509080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5072-50BE-4DD9-8B58-FD31E710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AFFA-7538-45DE-9B84-97DB2828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CB54-8901-4592-AF46-BCF3B7BB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CEEE-B42A-4186-B696-4008F917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258D-C5B1-41EF-8EC6-2DC41A58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3558-D088-411C-8D96-F9F7FF0F51E3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F8ED-3908-4080-9301-76A9CD24F0A6}" type="slidenum">
              <a:rPr b="0" lang="en-US" sz="1400" spc="-1" strike="noStrike">
                <a:solidFill>
                  <a:srgbClr val="3366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5000" y="6442200"/>
            <a:ext cx="2766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3366ff"/>
                </a:solidFill>
                <a:latin typeface="Tahoma"/>
              </a:rPr>
              <a:t>USC  INFORMATION SCIENCES INSTITUTE</a:t>
            </a: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-360" y="6442200"/>
            <a:ext cx="9144360" cy="183960"/>
            <a:chOff x="-360" y="6442200"/>
            <a:chExt cx="9144360" cy="183960"/>
          </a:xfrm>
        </p:grpSpPr>
        <p:sp>
          <p:nvSpPr>
            <p:cNvPr id="68" name=""/>
            <p:cNvSpPr/>
            <p:nvPr/>
          </p:nvSpPr>
          <p:spPr>
            <a:xfrm>
              <a:off x="7281720" y="6442200"/>
              <a:ext cx="352440" cy="183960"/>
            </a:xfrm>
            <a:custGeom>
              <a:avLst/>
              <a:gdLst/>
              <a:ahLst/>
              <a:rect l="l" t="t" r="r" b="b"/>
              <a:pathLst>
                <a:path w="222" h="116">
                  <a:moveTo>
                    <a:pt x="164" y="0"/>
                  </a:moveTo>
                  <a:lnTo>
                    <a:pt x="115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7" y="1"/>
                  </a:lnTo>
                  <a:lnTo>
                    <a:pt x="84" y="1"/>
                  </a:lnTo>
                  <a:lnTo>
                    <a:pt x="79" y="2"/>
                  </a:lnTo>
                  <a:lnTo>
                    <a:pt x="75" y="3"/>
                  </a:lnTo>
                  <a:lnTo>
                    <a:pt x="73" y="5"/>
                  </a:lnTo>
                  <a:lnTo>
                    <a:pt x="70" y="7"/>
                  </a:lnTo>
                  <a:lnTo>
                    <a:pt x="69" y="10"/>
                  </a:lnTo>
                  <a:lnTo>
                    <a:pt x="67" y="14"/>
                  </a:lnTo>
                  <a:lnTo>
                    <a:pt x="66" y="19"/>
                  </a:lnTo>
                  <a:lnTo>
                    <a:pt x="65" y="24"/>
                  </a:lnTo>
                  <a:lnTo>
                    <a:pt x="64" y="31"/>
                  </a:lnTo>
                  <a:lnTo>
                    <a:pt x="62" y="38"/>
                  </a:lnTo>
                  <a:lnTo>
                    <a:pt x="61" y="43"/>
                  </a:lnTo>
                  <a:lnTo>
                    <a:pt x="61" y="47"/>
                  </a:lnTo>
                  <a:lnTo>
                    <a:pt x="59" y="52"/>
                  </a:lnTo>
                  <a:lnTo>
                    <a:pt x="58" y="57"/>
                  </a:lnTo>
                  <a:lnTo>
                    <a:pt x="57" y="62"/>
                  </a:lnTo>
                  <a:lnTo>
                    <a:pt x="56" y="67"/>
                  </a:lnTo>
                  <a:lnTo>
                    <a:pt x="55" y="72"/>
                  </a:lnTo>
                  <a:lnTo>
                    <a:pt x="54" y="76"/>
                  </a:lnTo>
                  <a:lnTo>
                    <a:pt x="53" y="84"/>
                  </a:lnTo>
                  <a:lnTo>
                    <a:pt x="51" y="90"/>
                  </a:lnTo>
                  <a:lnTo>
                    <a:pt x="50" y="96"/>
                  </a:lnTo>
                  <a:lnTo>
                    <a:pt x="49" y="101"/>
                  </a:lnTo>
                  <a:lnTo>
                    <a:pt x="47" y="105"/>
                  </a:lnTo>
                  <a:lnTo>
                    <a:pt x="46" y="108"/>
                  </a:lnTo>
                  <a:lnTo>
                    <a:pt x="43" y="110"/>
                  </a:lnTo>
                  <a:lnTo>
                    <a:pt x="40" y="112"/>
                  </a:lnTo>
                  <a:lnTo>
                    <a:pt x="36" y="113"/>
                  </a:lnTo>
                  <a:lnTo>
                    <a:pt x="32" y="114"/>
                  </a:lnTo>
                  <a:lnTo>
                    <a:pt x="29" y="114"/>
                  </a:lnTo>
                  <a:lnTo>
                    <a:pt x="26" y="115"/>
                  </a:lnTo>
                  <a:lnTo>
                    <a:pt x="22" y="115"/>
                  </a:lnTo>
                  <a:lnTo>
                    <a:pt x="18" y="115"/>
                  </a:lnTo>
                  <a:lnTo>
                    <a:pt x="14" y="115"/>
                  </a:lnTo>
                  <a:lnTo>
                    <a:pt x="10" y="115"/>
                  </a:lnTo>
                  <a:lnTo>
                    <a:pt x="5" y="115"/>
                  </a:lnTo>
                  <a:lnTo>
                    <a:pt x="0" y="115"/>
                  </a:lnTo>
                  <a:lnTo>
                    <a:pt x="50" y="115"/>
                  </a:lnTo>
                  <a:lnTo>
                    <a:pt x="55" y="115"/>
                  </a:lnTo>
                  <a:lnTo>
                    <a:pt x="60" y="115"/>
                  </a:lnTo>
                  <a:lnTo>
                    <a:pt x="65" y="115"/>
                  </a:lnTo>
                  <a:lnTo>
                    <a:pt x="69" y="115"/>
                  </a:lnTo>
                  <a:lnTo>
                    <a:pt x="73" y="115"/>
                  </a:lnTo>
                  <a:lnTo>
                    <a:pt x="76" y="115"/>
                  </a:lnTo>
                  <a:lnTo>
                    <a:pt x="79" y="114"/>
                  </a:lnTo>
                  <a:lnTo>
                    <a:pt x="82" y="114"/>
                  </a:lnTo>
                  <a:lnTo>
                    <a:pt x="87" y="113"/>
                  </a:lnTo>
                  <a:lnTo>
                    <a:pt x="90" y="112"/>
                  </a:lnTo>
                  <a:lnTo>
                    <a:pt x="93" y="110"/>
                  </a:lnTo>
                  <a:lnTo>
                    <a:pt x="96" y="108"/>
                  </a:lnTo>
                  <a:lnTo>
                    <a:pt x="97" y="105"/>
                  </a:lnTo>
                  <a:lnTo>
                    <a:pt x="99" y="101"/>
                  </a:lnTo>
                  <a:lnTo>
                    <a:pt x="100" y="96"/>
                  </a:lnTo>
                  <a:lnTo>
                    <a:pt x="101" y="90"/>
                  </a:lnTo>
                  <a:lnTo>
                    <a:pt x="103" y="84"/>
                  </a:lnTo>
                  <a:lnTo>
                    <a:pt x="104" y="76"/>
                  </a:lnTo>
                  <a:lnTo>
                    <a:pt x="105" y="72"/>
                  </a:lnTo>
                  <a:lnTo>
                    <a:pt x="106" y="67"/>
                  </a:lnTo>
                  <a:lnTo>
                    <a:pt x="107" y="62"/>
                  </a:lnTo>
                  <a:lnTo>
                    <a:pt x="108" y="57"/>
                  </a:lnTo>
                  <a:lnTo>
                    <a:pt x="109" y="52"/>
                  </a:lnTo>
                  <a:lnTo>
                    <a:pt x="111" y="47"/>
                  </a:lnTo>
                  <a:lnTo>
                    <a:pt x="112" y="43"/>
                  </a:lnTo>
                  <a:lnTo>
                    <a:pt x="112" y="38"/>
                  </a:lnTo>
                  <a:lnTo>
                    <a:pt x="114" y="31"/>
                  </a:lnTo>
                  <a:lnTo>
                    <a:pt x="115" y="24"/>
                  </a:lnTo>
                  <a:lnTo>
                    <a:pt x="116" y="19"/>
                  </a:lnTo>
                  <a:lnTo>
                    <a:pt x="118" y="14"/>
                  </a:lnTo>
                  <a:lnTo>
                    <a:pt x="119" y="10"/>
                  </a:lnTo>
                  <a:lnTo>
                    <a:pt x="121" y="7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2"/>
                  </a:lnTo>
                  <a:lnTo>
                    <a:pt x="134" y="1"/>
                  </a:lnTo>
                  <a:lnTo>
                    <a:pt x="137" y="1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221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83320" y="6442200"/>
              <a:ext cx="263520" cy="183960"/>
            </a:xfrm>
            <a:custGeom>
              <a:avLst/>
              <a:gdLst/>
              <a:ahLst/>
              <a:rect l="l" t="t" r="r" b="b"/>
              <a:pathLst>
                <a:path w="166" h="116">
                  <a:moveTo>
                    <a:pt x="165" y="0"/>
                  </a:moveTo>
                  <a:lnTo>
                    <a:pt x="160" y="0"/>
                  </a:lnTo>
                  <a:lnTo>
                    <a:pt x="155" y="0"/>
                  </a:lnTo>
                  <a:lnTo>
                    <a:pt x="151" y="0"/>
                  </a:lnTo>
                  <a:lnTo>
                    <a:pt x="147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7" y="1"/>
                  </a:lnTo>
                  <a:lnTo>
                    <a:pt x="134" y="1"/>
                  </a:lnTo>
                  <a:lnTo>
                    <a:pt x="129" y="2"/>
                  </a:lnTo>
                  <a:lnTo>
                    <a:pt x="126" y="3"/>
                  </a:lnTo>
                  <a:lnTo>
                    <a:pt x="123" y="5"/>
                  </a:lnTo>
                  <a:lnTo>
                    <a:pt x="121" y="7"/>
                  </a:lnTo>
                  <a:lnTo>
                    <a:pt x="119" y="10"/>
                  </a:lnTo>
                  <a:lnTo>
                    <a:pt x="117" y="14"/>
                  </a:lnTo>
                  <a:lnTo>
                    <a:pt x="116" y="19"/>
                  </a:lnTo>
                  <a:lnTo>
                    <a:pt x="115" y="24"/>
                  </a:lnTo>
                  <a:lnTo>
                    <a:pt x="114" y="31"/>
                  </a:lnTo>
                  <a:lnTo>
                    <a:pt x="112" y="38"/>
                  </a:lnTo>
                  <a:lnTo>
                    <a:pt x="111" y="43"/>
                  </a:lnTo>
                  <a:lnTo>
                    <a:pt x="111" y="47"/>
                  </a:lnTo>
                  <a:lnTo>
                    <a:pt x="109" y="52"/>
                  </a:lnTo>
                  <a:lnTo>
                    <a:pt x="108" y="57"/>
                  </a:lnTo>
                  <a:lnTo>
                    <a:pt x="107" y="62"/>
                  </a:lnTo>
                  <a:lnTo>
                    <a:pt x="106" y="67"/>
                  </a:lnTo>
                  <a:lnTo>
                    <a:pt x="105" y="72"/>
                  </a:lnTo>
                  <a:lnTo>
                    <a:pt x="104" y="76"/>
                  </a:lnTo>
                  <a:lnTo>
                    <a:pt x="103" y="84"/>
                  </a:lnTo>
                  <a:lnTo>
                    <a:pt x="101" y="90"/>
                  </a:lnTo>
                  <a:lnTo>
                    <a:pt x="100" y="96"/>
                  </a:lnTo>
                  <a:lnTo>
                    <a:pt x="99" y="101"/>
                  </a:lnTo>
                  <a:lnTo>
                    <a:pt x="97" y="105"/>
                  </a:lnTo>
                  <a:lnTo>
                    <a:pt x="96" y="108"/>
                  </a:lnTo>
                  <a:lnTo>
                    <a:pt x="93" y="110"/>
                  </a:lnTo>
                  <a:lnTo>
                    <a:pt x="90" y="112"/>
                  </a:lnTo>
                  <a:lnTo>
                    <a:pt x="87" y="113"/>
                  </a:lnTo>
                  <a:lnTo>
                    <a:pt x="82" y="114"/>
                  </a:lnTo>
                  <a:lnTo>
                    <a:pt x="79" y="114"/>
                  </a:lnTo>
                  <a:lnTo>
                    <a:pt x="76" y="115"/>
                  </a:lnTo>
                  <a:lnTo>
                    <a:pt x="72" y="115"/>
                  </a:lnTo>
                  <a:lnTo>
                    <a:pt x="68" y="115"/>
                  </a:lnTo>
                  <a:lnTo>
                    <a:pt x="64" y="115"/>
                  </a:lnTo>
                  <a:lnTo>
                    <a:pt x="60" y="115"/>
                  </a:lnTo>
                  <a:lnTo>
                    <a:pt x="55" y="115"/>
                  </a:lnTo>
                  <a:lnTo>
                    <a:pt x="50" y="115"/>
                  </a:lnTo>
                  <a:lnTo>
                    <a:pt x="0" y="115"/>
                  </a:lnTo>
                  <a:lnTo>
                    <a:pt x="5" y="115"/>
                  </a:lnTo>
                  <a:lnTo>
                    <a:pt x="10" y="115"/>
                  </a:lnTo>
                  <a:lnTo>
                    <a:pt x="14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6" y="115"/>
                  </a:lnTo>
                  <a:lnTo>
                    <a:pt x="29" y="114"/>
                  </a:lnTo>
                  <a:lnTo>
                    <a:pt x="32" y="114"/>
                  </a:lnTo>
                  <a:lnTo>
                    <a:pt x="36" y="113"/>
                  </a:lnTo>
                  <a:lnTo>
                    <a:pt x="40" y="112"/>
                  </a:lnTo>
                  <a:lnTo>
                    <a:pt x="43" y="110"/>
                  </a:lnTo>
                  <a:lnTo>
                    <a:pt x="46" y="108"/>
                  </a:lnTo>
                  <a:lnTo>
                    <a:pt x="47" y="105"/>
                  </a:lnTo>
                  <a:lnTo>
                    <a:pt x="49" y="101"/>
                  </a:lnTo>
                  <a:lnTo>
                    <a:pt x="50" y="96"/>
                  </a:lnTo>
                  <a:lnTo>
                    <a:pt x="51" y="90"/>
                  </a:lnTo>
                  <a:lnTo>
                    <a:pt x="52" y="84"/>
                  </a:lnTo>
                  <a:lnTo>
                    <a:pt x="54" y="76"/>
                  </a:lnTo>
                  <a:lnTo>
                    <a:pt x="55" y="72"/>
                  </a:lnTo>
                  <a:lnTo>
                    <a:pt x="56" y="67"/>
                  </a:lnTo>
                  <a:lnTo>
                    <a:pt x="57" y="62"/>
                  </a:lnTo>
                  <a:lnTo>
                    <a:pt x="58" y="57"/>
                  </a:lnTo>
                  <a:lnTo>
                    <a:pt x="59" y="52"/>
                  </a:lnTo>
                  <a:lnTo>
                    <a:pt x="60" y="47"/>
                  </a:lnTo>
                  <a:lnTo>
                    <a:pt x="61" y="43"/>
                  </a:lnTo>
                  <a:lnTo>
                    <a:pt x="62" y="38"/>
                  </a:lnTo>
                  <a:lnTo>
                    <a:pt x="64" y="31"/>
                  </a:lnTo>
                  <a:lnTo>
                    <a:pt x="65" y="24"/>
                  </a:lnTo>
                  <a:lnTo>
                    <a:pt x="66" y="19"/>
                  </a:lnTo>
                  <a:lnTo>
                    <a:pt x="67" y="14"/>
                  </a:lnTo>
                  <a:lnTo>
                    <a:pt x="68" y="10"/>
                  </a:lnTo>
                  <a:lnTo>
                    <a:pt x="70" y="7"/>
                  </a:lnTo>
                  <a:lnTo>
                    <a:pt x="72" y="5"/>
                  </a:lnTo>
                  <a:lnTo>
                    <a:pt x="75" y="3"/>
                  </a:lnTo>
                  <a:lnTo>
                    <a:pt x="79" y="2"/>
                  </a:lnTo>
                  <a:lnTo>
                    <a:pt x="84" y="1"/>
                  </a:lnTo>
                  <a:lnTo>
                    <a:pt x="87" y="1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5" y="0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64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35880" y="647856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2" y="0"/>
                  </a:moveTo>
                  <a:lnTo>
                    <a:pt x="31" y="3"/>
                  </a:lnTo>
                  <a:lnTo>
                    <a:pt x="31" y="5"/>
                  </a:lnTo>
                  <a:lnTo>
                    <a:pt x="31" y="7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29" y="11"/>
                  </a:lnTo>
                  <a:lnTo>
                    <a:pt x="28" y="12"/>
                  </a:lnTo>
                  <a:lnTo>
                    <a:pt x="27" y="13"/>
                  </a:lnTo>
                  <a:lnTo>
                    <a:pt x="26" y="13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19" y="14"/>
                  </a:lnTo>
                  <a:lnTo>
                    <a:pt x="15" y="14"/>
                  </a:lnTo>
                  <a:lnTo>
                    <a:pt x="11" y="15"/>
                  </a:lnTo>
                  <a:lnTo>
                    <a:pt x="6" y="15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11" y="15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4" y="15"/>
                  </a:lnTo>
                  <a:lnTo>
                    <a:pt x="25" y="15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8" y="17"/>
                  </a:lnTo>
                  <a:lnTo>
                    <a:pt x="28" y="18"/>
                  </a:lnTo>
                  <a:lnTo>
                    <a:pt x="28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27" y="25"/>
                  </a:lnTo>
                  <a:lnTo>
                    <a:pt x="26" y="28"/>
                  </a:lnTo>
                  <a:lnTo>
                    <a:pt x="32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450200" y="653580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8"/>
                  </a:moveTo>
                  <a:lnTo>
                    <a:pt x="0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6" y="14"/>
                  </a:lnTo>
                  <a:lnTo>
                    <a:pt x="32" y="14"/>
                  </a:lnTo>
                  <a:lnTo>
                    <a:pt x="26" y="13"/>
                  </a:lnTo>
                  <a:lnTo>
                    <a:pt x="21" y="13"/>
                  </a:lnTo>
                  <a:lnTo>
                    <a:pt x="17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5" y="2"/>
                  </a:lnTo>
                  <a:lnTo>
                    <a:pt x="6" y="0"/>
                  </a:lnTo>
                  <a:lnTo>
                    <a:pt x="0" y="28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369200" y="6624720"/>
              <a:ext cx="1173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36040" y="6442200"/>
              <a:ext cx="14079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-360" y="6624720"/>
              <a:ext cx="731844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80200" y="6624720"/>
              <a:ext cx="41292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570800" y="6471720"/>
              <a:ext cx="22320" cy="1177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7446960" y="6494400"/>
              <a:ext cx="22320" cy="1173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16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71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76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D7C3-6E99-4FFD-A453-4982B3F90A63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5D00-68D6-4CF9-BE5A-501345523D5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C:\research\vint\nam-1.0a9\nam.exe &quot;C:/research/slides/vint/mcast-noc.nam&quot;" TargetMode="Externa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c:\research\vint\nam-1.0a9\nam.exe &quot;c:/research/vint/nam-1.0a9/ex/srm-example.nam&quot;" TargetMode="External"/><Relationship Id="rId6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c:\research\vint\nam-1.0a9\nam.exe &quot;C:/research/slides/vint/mcast-color.nam&quot;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rt I: Fundament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7809-22A4-44E7-B96E-93D6A4D32D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ello World - Batch Mo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Courier New"/>
              </a:rPr>
              <a:t>simple.tc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set ns [new Simulator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ns at 1 “puts \“Hello World!\”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ns at 1.5 “exit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ns ru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wallow 74% </a:t>
            </a:r>
            <a:r>
              <a:rPr b="1" lang="en-US" sz="2800" spc="-1" strike="noStrike">
                <a:solidFill>
                  <a:srgbClr val="40458c"/>
                </a:solidFill>
                <a:latin typeface="Courier New"/>
              </a:rPr>
              <a:t>ns simple.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Hello World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wallow 75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8044-D033-44FB-AD01-3FFCD56B1B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asic tc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a 43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b 27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proc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test { a b }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c [expr $a + $b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d [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exp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[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exp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$a - $b] * $c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{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k 0} {$k &lt; 10} {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inc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k}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{$k &lt; 5}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puts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“k &lt; 5, pow = [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exp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pow($d, $k)]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else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puts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“k &gt;= 5, mod = [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exp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$d % $k]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test 43 27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0000-3BE8-4077-9055-1CDDD96077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asic OTc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4191120" cy="45162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Mo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Mom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instproc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greet {}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lf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instva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age_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puts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“$age_ years old mom: How are you doing?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Kid -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uperclass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Mo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Kid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instproc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greet {}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lf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instva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age_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puts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“$age_ years old kid: What’s up, dude?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029200" y="1676520"/>
            <a:ext cx="3581280" cy="45180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mom [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new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Mom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mom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age_ 45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kid [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new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Kid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kid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age_ 15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mom gree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kid gree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31D3-05DD-45C7-ABF0-F3C1C6B21C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ements of ns-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reate the event schedul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[Turn on tracing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reate networ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up rout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sert erro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reate transport conne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reate traffi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nsmit application-level dat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711A-177B-43DA-9C4C-83D794E3A8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reating Event Schedul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 event schedul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ns [new Simulator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chedule ev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at &lt;time&gt; &lt;event&gt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&lt;event&gt;: any legitimate ns/tcl comman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art schedul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ru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B3BE-E8F3-475F-9609-350FC36F15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rac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race packets on all lin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trace-all [open test.out w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Courier New"/>
              </a:rPr>
              <a:t>&lt;event&gt; &lt;time&gt; &lt;from&gt; &lt;to&gt; &lt;pkt&gt; &lt;size&gt; -- &lt;fid&gt; &lt;src&gt; &lt;dst&gt; &lt;seq&gt; &lt;attr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Courier New"/>
              </a:rPr>
              <a:t>+ 1 0 2 cbr 210 ------- 0 0.0 3.1 0 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Courier New"/>
              </a:rPr>
              <a:t>- 1 0 2 cbr 210 ------- 0 0.0 3.1 0 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Courier New"/>
              </a:rPr>
              <a:t>r 1.00234 0 2 cbr 210 ------- 0 0.0 3.1 0 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race packets on all links in nam-1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namtrace-all [open test.nam w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ahoma"/>
              </a:rPr>
              <a:t>Must appear immediately after creating schedul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F07B-9D12-41CC-8B05-E66263901A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rac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urn on tracing on specific lin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trace-queue $n0 $n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namtrace-queue $n0 $n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255E-436E-4A22-93AE-EB69C53225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reating Network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d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n0 [$ns node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n1 [$ns node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nks and queu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duplex-link $n0 $n1 &lt;bandwidth&gt; &lt;delay&gt; &lt;queue_type&gt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&lt;queue_type&gt;: DropTail, RED, CBQ, FQ, SFQ, DR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DF78-B371-4239-937E-B0AD60BD53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reating Network: LA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make-lan &lt;node_list&gt; &lt;bandwidth&gt; &lt;delay&gt; &lt;ll_type&gt; &lt;ifq_type&gt; &lt;mac_type&gt; &lt;channel_type&gt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&lt;ll_type&gt;: L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&lt;ifq_type&gt;: Queue/DropTail,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&lt;mac_type&gt;: MAC/802_3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&lt;channel_type&gt;: Chann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A39B-B6DB-4BC5-9ED1-36D82C52EF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serting Erro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ing Error Mod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loss_module [new ErrorModel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loss_module set rate_ 0.0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loss_module unit pk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loss_module ranvar [new RandomVariable/Uniform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loss_module drop-target [new Agent/Null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serting Error Mod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lossmodel $loss_module $n0 $n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6649-5F7C-4D93-8ED8-8C7B75D855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s Prim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Getting start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red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less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Emulat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6385-CEC6-4F19-926D-BD2151C523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twork Dynamic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nk failur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oks in routing module to reflect routing chang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 mode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rtmodel Trace &lt;config_file&gt; $n0 $n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rtmodel Exponential {&lt;params&gt;} $n0 $n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rtmodel Deterministic {&lt;params&gt;} $n0 $n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rtmodel-at &lt;time&gt; up|down $n0 $n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rameter li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[&lt;start&gt;] &lt;up_interval&gt; &lt;down_interval&gt; [&lt;finish&gt;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E86F-C9BD-474F-8229-32E97158F1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tup Rout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ica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rtproto &lt;type&gt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&lt;type&gt;: Static, Session, DV, cost, multi-pat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ultica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multicast (right after [new Simulator]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mrtproto &lt;type&gt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&lt;type&gt;: CtrMcast, DM, ST, B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EEF6-4EE3-446C-80BD-AA4E8E9759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reating Connection: UD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D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udp [new Agent/UDP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null [new Agent/Null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attach-agent $n0 $ud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attach-agent $n1 $nul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connect $udp $nul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747E-294C-4957-82B9-C3286BC551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Creating Traffic: On Top of UDP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B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src [new Application/Traffic/CBR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onential or Pareto on-off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src [new Application/Traffic/Exponential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src [new Application/Traffic/Pareto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CDD5-2AFB-49C3-9718-7C0D9424E6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reating Connection: TC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C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tcp [new Agent/TCP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tcpsink [new Agent/TCPSink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attach-agent $n0 $tc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attach-agent $n1 $tcpsin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connect $tcp $tcpsin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1DA6-8AAB-4F76-AFBD-C16DF8AF6E7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Creating Traffic: On Top of TCP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T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ftp [new Application/FTP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ftp attach-agent $tc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elne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telnet [new Application/Telnet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telnet attach-agent $tc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1728-851D-4B95-96A7-005D7027675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reating Traffic: Trace Driv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ce drive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t tfile [new Tracefile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$tfile filename &lt;file&gt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t src [new Application/Traffic/Trace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$src attach-tracefile $tfi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&lt;file&gt;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inary format (</a:t>
            </a:r>
            <a:r>
              <a:rPr b="0" lang="en-US" sz="2400" spc="-1" strike="noStrike">
                <a:solidFill>
                  <a:srgbClr val="ff5050"/>
                </a:solidFill>
                <a:latin typeface="Tahoma"/>
              </a:rPr>
              <a:t>native!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ter-packet time (msec) and packet size (byt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C193-7A0C-4BE4-830B-D6FB9B2B136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plication-Level Simul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eatur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uild on top of existing transport protoco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nsmit user data, e.g., HTTP head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wo different solu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CP: Application/TcpAp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DP: Agent/Mess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30D3-178A-436F-B1FA-29BCA87A278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plication/TcpAp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19000" y="3949200"/>
            <a:ext cx="601992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bstraction: TCP as a FIFO pip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efore sending: S notifies about R data siz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fter receiving: R gets data (arbitrary string) from 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2" name=""/>
          <p:cNvSpPr/>
          <p:nvPr/>
        </p:nvSpPr>
        <p:spPr>
          <a:xfrm>
            <a:off x="838080" y="2590920"/>
            <a:ext cx="533520" cy="4572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34320" y="2590920"/>
            <a:ext cx="533160" cy="4572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819520"/>
            <a:ext cx="556272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21524400">
            <a:off x="3200400" y="2590920"/>
            <a:ext cx="219240" cy="11412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0"/>
                </a:moveTo>
                <a:lnTo>
                  <a:pt x="113" y="2"/>
                </a:lnTo>
                <a:lnTo>
                  <a:pt x="154" y="39"/>
                </a:lnTo>
                <a:lnTo>
                  <a:pt x="11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21524400">
            <a:off x="4952880" y="2590920"/>
            <a:ext cx="219240" cy="11412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0"/>
                </a:moveTo>
                <a:lnTo>
                  <a:pt x="113" y="2"/>
                </a:lnTo>
                <a:lnTo>
                  <a:pt x="154" y="39"/>
                </a:lnTo>
                <a:lnTo>
                  <a:pt x="11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21524400">
            <a:off x="6400800" y="2590920"/>
            <a:ext cx="219240" cy="11412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0"/>
                </a:moveTo>
                <a:lnTo>
                  <a:pt x="113" y="2"/>
                </a:lnTo>
                <a:lnTo>
                  <a:pt x="154" y="39"/>
                </a:lnTo>
                <a:lnTo>
                  <a:pt x="11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6917040" y="4254480"/>
            <a:ext cx="1690560" cy="1557000"/>
            <a:chOff x="6917040" y="4254480"/>
            <a:chExt cx="1690560" cy="1557000"/>
          </a:xfrm>
        </p:grpSpPr>
        <p:sp>
          <p:nvSpPr>
            <p:cNvPr id="339" name=""/>
            <p:cNvSpPr/>
            <p:nvPr/>
          </p:nvSpPr>
          <p:spPr>
            <a:xfrm>
              <a:off x="6917040" y="4254480"/>
              <a:ext cx="766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40458c"/>
                  </a:solidFill>
                  <a:latin typeface="Times New Roman"/>
                </a:rPr>
                <a:t>}</a:t>
              </a:r>
              <a:endParaRPr b="0" lang="en-US" sz="9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448760" y="4788000"/>
              <a:ext cx="1158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Out-of-band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295280" y="3048120"/>
            <a:ext cx="6827760" cy="557640"/>
            <a:chOff x="1295280" y="3048120"/>
            <a:chExt cx="6827760" cy="557640"/>
          </a:xfrm>
        </p:grpSpPr>
        <p:sp>
          <p:nvSpPr>
            <p:cNvPr id="342" name=""/>
            <p:cNvSpPr/>
            <p:nvPr/>
          </p:nvSpPr>
          <p:spPr>
            <a:xfrm>
              <a:off x="1295280" y="3048120"/>
              <a:ext cx="5639040" cy="533160"/>
            </a:xfrm>
            <a:custGeom>
              <a:avLst/>
              <a:gdLst/>
              <a:ahLst/>
              <a:rect l="l" t="t" r="r" b="b"/>
              <a:pathLst>
                <a:path w="3552" h="336">
                  <a:moveTo>
                    <a:pt x="0" y="0"/>
                  </a:moveTo>
                  <a:cubicBezTo>
                    <a:pt x="176" y="120"/>
                    <a:pt x="352" y="240"/>
                    <a:pt x="768" y="288"/>
                  </a:cubicBezTo>
                  <a:cubicBezTo>
                    <a:pt x="1184" y="336"/>
                    <a:pt x="2032" y="336"/>
                    <a:pt x="2496" y="288"/>
                  </a:cubicBezTo>
                  <a:cubicBezTo>
                    <a:pt x="2960" y="240"/>
                    <a:pt x="3256" y="120"/>
                    <a:pt x="3552" y="0"/>
                  </a:cubicBezTo>
                </a:path>
              </a:pathLst>
            </a:custGeom>
            <a:noFill/>
            <a:ln w="12600">
              <a:solidFill>
                <a:srgbClr val="660066"/>
              </a:solidFill>
              <a:prstDash val="dash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198480" y="3206880"/>
              <a:ext cx="192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Tahoma"/>
                </a:rPr>
                <a:t>Expect </a:t>
              </a:r>
              <a:r>
                <a:rPr b="0" i="1" lang="en-US" sz="2000" spc="-1" strike="noStrike">
                  <a:solidFill>
                    <a:srgbClr val="660066"/>
                  </a:solidFill>
                  <a:latin typeface="Tahoma"/>
                </a:rPr>
                <a:t>N</a:t>
              </a:r>
              <a:r>
                <a:rPr b="0" lang="en-US" sz="2000" spc="-1" strike="noStrike">
                  <a:solidFill>
                    <a:srgbClr val="660066"/>
                  </a:solidFill>
                  <a:latin typeface="Tahoma"/>
                </a:rPr>
                <a:t> bytes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1371240" y="1897200"/>
            <a:ext cx="7893360" cy="617400"/>
            <a:chOff x="1371240" y="1897200"/>
            <a:chExt cx="7893360" cy="617400"/>
          </a:xfrm>
        </p:grpSpPr>
        <p:sp>
          <p:nvSpPr>
            <p:cNvPr id="345" name=""/>
            <p:cNvSpPr/>
            <p:nvPr/>
          </p:nvSpPr>
          <p:spPr>
            <a:xfrm rot="10800000">
              <a:off x="1371240" y="1980720"/>
              <a:ext cx="5638680" cy="533520"/>
            </a:xfrm>
            <a:custGeom>
              <a:avLst/>
              <a:gdLst/>
              <a:ahLst/>
              <a:rect l="l" t="t" r="r" b="b"/>
              <a:pathLst>
                <a:path w="3552" h="336">
                  <a:moveTo>
                    <a:pt x="0" y="0"/>
                  </a:moveTo>
                  <a:cubicBezTo>
                    <a:pt x="176" y="120"/>
                    <a:pt x="352" y="240"/>
                    <a:pt x="768" y="288"/>
                  </a:cubicBezTo>
                  <a:cubicBezTo>
                    <a:pt x="1184" y="336"/>
                    <a:pt x="2032" y="336"/>
                    <a:pt x="2496" y="288"/>
                  </a:cubicBezTo>
                  <a:cubicBezTo>
                    <a:pt x="2960" y="240"/>
                    <a:pt x="3256" y="120"/>
                    <a:pt x="3552" y="0"/>
                  </a:cubicBezTo>
                </a:path>
              </a:pathLst>
            </a:custGeom>
            <a:noFill/>
            <a:ln w="12600">
              <a:solidFill>
                <a:srgbClr val="660066"/>
              </a:solidFill>
              <a:prstDash val="dash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264360" y="1897200"/>
              <a:ext cx="300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Tahoma"/>
                </a:rPr>
                <a:t>Get first </a:t>
              </a:r>
              <a:r>
                <a:rPr b="0" i="1" lang="en-US" sz="2000" spc="-1" strike="noStrike">
                  <a:solidFill>
                    <a:srgbClr val="660066"/>
                  </a:solidFill>
                  <a:latin typeface="Tahoma"/>
                </a:rPr>
                <a:t>N</a:t>
              </a:r>
              <a:r>
                <a:rPr b="0" lang="en-US" sz="2000" spc="-1" strike="noStrike">
                  <a:solidFill>
                    <a:srgbClr val="660066"/>
                  </a:solidFill>
                  <a:latin typeface="Tahoma"/>
                </a:rPr>
                <a:t> bytes of data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1440000" y="2119320"/>
            <a:ext cx="1601640" cy="703800"/>
            <a:chOff x="1440000" y="2119320"/>
            <a:chExt cx="1601640" cy="703800"/>
          </a:xfrm>
        </p:grpSpPr>
        <p:sp>
          <p:nvSpPr>
            <p:cNvPr id="348" name=""/>
            <p:cNvSpPr/>
            <p:nvPr/>
          </p:nvSpPr>
          <p:spPr>
            <a:xfrm rot="21524400">
              <a:off x="1600200" y="2590920"/>
              <a:ext cx="219240" cy="114120"/>
            </a:xfrm>
            <a:custGeom>
              <a:avLst/>
              <a:gdLst/>
              <a:ahLst/>
              <a:rect l="l" t="t" r="r" b="b"/>
              <a:pathLst>
                <a:path w="154" h="79">
                  <a:moveTo>
                    <a:pt x="0" y="0"/>
                  </a:moveTo>
                  <a:lnTo>
                    <a:pt x="113" y="2"/>
                  </a:lnTo>
                  <a:lnTo>
                    <a:pt x="154" y="39"/>
                  </a:lnTo>
                  <a:lnTo>
                    <a:pt x="113" y="79"/>
                  </a:lnTo>
                  <a:lnTo>
                    <a:pt x="0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40000" y="2119320"/>
              <a:ext cx="160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pkt (empty)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5705280" y="2895480"/>
            <a:ext cx="581400" cy="467280"/>
            <a:chOff x="5705280" y="2895480"/>
            <a:chExt cx="581400" cy="467280"/>
          </a:xfrm>
        </p:grpSpPr>
        <p:sp>
          <p:nvSpPr>
            <p:cNvPr id="351" name=""/>
            <p:cNvSpPr/>
            <p:nvPr/>
          </p:nvSpPr>
          <p:spPr>
            <a:xfrm rot="10800000">
              <a:off x="5866920" y="2895480"/>
              <a:ext cx="219240" cy="114480"/>
            </a:xfrm>
            <a:custGeom>
              <a:avLst/>
              <a:gdLst/>
              <a:ahLst/>
              <a:rect l="l" t="t" r="r" b="b"/>
              <a:pathLst>
                <a:path w="154" h="79">
                  <a:moveTo>
                    <a:pt x="0" y="0"/>
                  </a:moveTo>
                  <a:lnTo>
                    <a:pt x="113" y="2"/>
                  </a:lnTo>
                  <a:lnTo>
                    <a:pt x="154" y="39"/>
                  </a:lnTo>
                  <a:lnTo>
                    <a:pt x="113" y="79"/>
                  </a:lnTo>
                  <a:lnTo>
                    <a:pt x="0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89f7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705280" y="296388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ack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 rot="10800000">
            <a:off x="4419720" y="2895480"/>
            <a:ext cx="218880" cy="11448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0"/>
                </a:moveTo>
                <a:lnTo>
                  <a:pt x="113" y="2"/>
                </a:lnTo>
                <a:lnTo>
                  <a:pt x="154" y="39"/>
                </a:lnTo>
                <a:lnTo>
                  <a:pt x="11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6f89f7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rot="10800000">
            <a:off x="2971440" y="2895480"/>
            <a:ext cx="219240" cy="11448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0"/>
                </a:moveTo>
                <a:lnTo>
                  <a:pt x="113" y="2"/>
                </a:lnTo>
                <a:lnTo>
                  <a:pt x="154" y="39"/>
                </a:lnTo>
                <a:lnTo>
                  <a:pt x="11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6f89f7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10800000">
            <a:off x="1676520" y="2895480"/>
            <a:ext cx="218880" cy="11448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0"/>
                </a:moveTo>
                <a:lnTo>
                  <a:pt x="113" y="2"/>
                </a:lnTo>
                <a:lnTo>
                  <a:pt x="154" y="39"/>
                </a:lnTo>
                <a:lnTo>
                  <a:pt x="11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6f89f7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5DE7-F9E8-478B-8AAD-C14A44E2237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plication/TcpAp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ep 1: FullTcp connec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et tcp1 [new Agent/TCP/FullTcp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et tcp2 [new Agent/TCP/FullTcp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ns attach-agent $n1 $tcp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ns attach-agent $n2 $tcp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ns connect $tcp1 $tcp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tcp2 liste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34BF-8348-40CE-BC98-A8B54738FAB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 Primer – Wired Worl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asic 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rchitectu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asic Tcl, 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ements of 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A complete examp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Multicast rout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Visualiz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4B1D-FBE8-40EE-B07D-023397675D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plication/TcpAp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tep 2: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reliable, in-order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user data transf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set app1 [new Application/TcpApp $tcp1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set app2 [new Application/TcpApp $tcp2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app1 connect $app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# &lt;ns-2 command&gt;: will be executed when received at the receiver TcpAp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at 1.0 “$app1 send &lt;data_byte&gt; \”&lt;ns-2 command&gt;\”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BA58-84B4-4D20-8FDA-FF5DF45434C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3732120"/>
            <a:ext cx="7772400" cy="25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UDP agent (without UDP header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p to 64 bytes user mess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Good for fast prototyping a simple ide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age requires extending ns functional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e’ll give an example tomorrow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>
            <a:off x="777960" y="2590920"/>
            <a:ext cx="533160" cy="4572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73840" y="2590920"/>
            <a:ext cx="533520" cy="4572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311120" y="2819520"/>
            <a:ext cx="556272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21524400">
            <a:off x="3139920" y="2590920"/>
            <a:ext cx="219240" cy="11412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0"/>
                </a:moveTo>
                <a:lnTo>
                  <a:pt x="113" y="2"/>
                </a:lnTo>
                <a:lnTo>
                  <a:pt x="154" y="39"/>
                </a:lnTo>
                <a:lnTo>
                  <a:pt x="11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21524400">
            <a:off x="4892760" y="2590920"/>
            <a:ext cx="218880" cy="11412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0"/>
                </a:moveTo>
                <a:lnTo>
                  <a:pt x="113" y="2"/>
                </a:lnTo>
                <a:lnTo>
                  <a:pt x="154" y="39"/>
                </a:lnTo>
                <a:lnTo>
                  <a:pt x="11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21524400">
            <a:off x="6340320" y="2590920"/>
            <a:ext cx="219240" cy="11412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0"/>
                </a:moveTo>
                <a:lnTo>
                  <a:pt x="113" y="2"/>
                </a:lnTo>
                <a:lnTo>
                  <a:pt x="154" y="39"/>
                </a:lnTo>
                <a:lnTo>
                  <a:pt x="11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21524400">
            <a:off x="1539720" y="2590920"/>
            <a:ext cx="219240" cy="11412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0"/>
                </a:moveTo>
                <a:lnTo>
                  <a:pt x="113" y="2"/>
                </a:lnTo>
                <a:lnTo>
                  <a:pt x="154" y="39"/>
                </a:lnTo>
                <a:lnTo>
                  <a:pt x="11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405080" y="1568520"/>
            <a:ext cx="1869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kt: 64 byt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f arbitrary string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21640" y="1770120"/>
            <a:ext cx="186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ceiver-sid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ocessing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D0BC-F43C-447B-8726-8E5E3479662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ummary: Generic Script Structur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ns [new Simulato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[Turn on tracing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Create topolog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Setup packet loss, link dynamic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Create routing agent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Create: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  - multicast group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  - protocol agent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  - application and/or setup traffic sourc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Post-processing proc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Start simulat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A570-EB73-4203-B7FF-82BB539DE8E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 Primer – Wired Worl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Basic 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complete examp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lticast rout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Visualiz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3D04-46E4-47CE-B0EB-C477609E89B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"/>
          <p:cNvGrpSpPr/>
          <p:nvPr/>
        </p:nvGrpSpPr>
        <p:grpSpPr>
          <a:xfrm>
            <a:off x="996120" y="3378240"/>
            <a:ext cx="2090520" cy="825480"/>
            <a:chOff x="996120" y="3378240"/>
            <a:chExt cx="2090520" cy="825480"/>
          </a:xfrm>
        </p:grpSpPr>
        <p:sp>
          <p:nvSpPr>
            <p:cNvPr id="376" name=""/>
            <p:cNvSpPr/>
            <p:nvPr/>
          </p:nvSpPr>
          <p:spPr>
            <a:xfrm flipH="1">
              <a:off x="1834560" y="3535200"/>
              <a:ext cx="538200" cy="53820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G2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77" name=""/>
            <p:cNvCxnSpPr>
              <a:stCxn id="376" idx="2"/>
              <a:endCxn id="378" idx="6"/>
            </p:cNvCxnSpPr>
            <p:nvPr/>
          </p:nvCxnSpPr>
          <p:spPr>
            <a:xfrm>
              <a:off x="2374920" y="3803760"/>
              <a:ext cx="712080" cy="216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  <p:sp>
          <p:nvSpPr>
            <p:cNvPr id="379" name=""/>
            <p:cNvSpPr/>
            <p:nvPr/>
          </p:nvSpPr>
          <p:spPr>
            <a:xfrm>
              <a:off x="996120" y="3378240"/>
              <a:ext cx="826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tim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1.3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994680" y="3378240"/>
            <a:ext cx="2089080" cy="825480"/>
            <a:chOff x="994680" y="3378240"/>
            <a:chExt cx="2089080" cy="825480"/>
          </a:xfrm>
        </p:grpSpPr>
        <p:grpSp>
          <p:nvGrpSpPr>
            <p:cNvPr id="381" name=""/>
            <p:cNvGrpSpPr/>
            <p:nvPr/>
          </p:nvGrpSpPr>
          <p:grpSpPr>
            <a:xfrm>
              <a:off x="1833480" y="3535200"/>
              <a:ext cx="1250280" cy="538200"/>
              <a:chOff x="1833480" y="3535200"/>
              <a:chExt cx="1250280" cy="538200"/>
            </a:xfrm>
          </p:grpSpPr>
          <p:sp>
            <p:nvSpPr>
              <p:cNvPr id="382" name=""/>
              <p:cNvSpPr/>
              <p:nvPr/>
            </p:nvSpPr>
            <p:spPr>
              <a:xfrm flipH="1">
                <a:off x="1833480" y="3535200"/>
                <a:ext cx="537840" cy="538200"/>
              </a:xfrm>
              <a:prstGeom prst="ellipse">
                <a:avLst/>
              </a:prstGeom>
              <a:solidFill>
                <a:srgbClr val="99ff33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G2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383" name=""/>
              <p:cNvCxnSpPr>
                <a:stCxn id="382" idx="2"/>
                <a:endCxn id="384" idx="6"/>
              </p:cNvCxnSpPr>
              <p:nvPr/>
            </p:nvCxnSpPr>
            <p:spPr>
              <a:xfrm>
                <a:off x="2372400" y="3803400"/>
                <a:ext cx="711720" cy="108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</p:cxnSp>
        </p:grpSp>
        <p:sp>
          <p:nvSpPr>
            <p:cNvPr id="385" name=""/>
            <p:cNvSpPr/>
            <p:nvPr/>
          </p:nvSpPr>
          <p:spPr>
            <a:xfrm>
              <a:off x="994680" y="3378240"/>
              <a:ext cx="826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tim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1.2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005480" y="3382920"/>
            <a:ext cx="2070720" cy="825480"/>
            <a:chOff x="1005480" y="3382920"/>
            <a:chExt cx="2070720" cy="825480"/>
          </a:xfrm>
        </p:grpSpPr>
        <p:sp>
          <p:nvSpPr>
            <p:cNvPr id="387" name=""/>
            <p:cNvSpPr/>
            <p:nvPr/>
          </p:nvSpPr>
          <p:spPr>
            <a:xfrm flipH="1">
              <a:off x="1825560" y="3539880"/>
              <a:ext cx="537840" cy="53820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ahoma"/>
                </a:rPr>
                <a:t>G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ahoma"/>
                </a:rPr>
                <a:t>G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88" name=""/>
            <p:cNvCxnSpPr>
              <a:stCxn id="387" idx="2"/>
            </p:cNvCxnSpPr>
            <p:nvPr/>
          </p:nvCxnSpPr>
          <p:spPr>
            <a:xfrm>
              <a:off x="2364840" y="3808440"/>
              <a:ext cx="711720" cy="216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  <p:sp>
          <p:nvSpPr>
            <p:cNvPr id="389" name=""/>
            <p:cNvSpPr/>
            <p:nvPr/>
          </p:nvSpPr>
          <p:spPr>
            <a:xfrm>
              <a:off x="1005480" y="3382920"/>
              <a:ext cx="930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tim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1.35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ample: Multicast Rout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ynamic group membership under Dense Mo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4339440" y="435600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130080" y="435780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3083760" y="353520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3083760" y="527220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94" name=""/>
          <p:cNvCxnSpPr>
            <a:stCxn id="392" idx="2"/>
            <a:endCxn id="393" idx="6"/>
          </p:cNvCxnSpPr>
          <p:nvPr/>
        </p:nvCxnSpPr>
        <p:spPr>
          <a:xfrm>
            <a:off x="4879800" y="4624560"/>
            <a:ext cx="1253520" cy="21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5" name=""/>
          <p:cNvCxnSpPr>
            <a:stCxn id="392" idx="6"/>
            <a:endCxn id="384" idx="3"/>
          </p:cNvCxnSpPr>
          <p:nvPr/>
        </p:nvCxnSpPr>
        <p:spPr>
          <a:xfrm flipH="1" flipV="1">
            <a:off x="3544560" y="3993480"/>
            <a:ext cx="797760" cy="6310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6" name=""/>
          <p:cNvCxnSpPr>
            <a:stCxn id="392" idx="6"/>
            <a:endCxn id="378" idx="1"/>
          </p:cNvCxnSpPr>
          <p:nvPr/>
        </p:nvCxnSpPr>
        <p:spPr>
          <a:xfrm flipH="1">
            <a:off x="3544560" y="4624200"/>
            <a:ext cx="797760" cy="7261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397" name=""/>
          <p:cNvSpPr/>
          <p:nvPr/>
        </p:nvSpPr>
        <p:spPr>
          <a:xfrm flipH="1">
            <a:off x="4803120" y="4240080"/>
            <a:ext cx="14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1.5Mb, 10m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3728160" y="4998960"/>
            <a:ext cx="14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1.5Mb, 10m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7325640" y="4357800"/>
            <a:ext cx="538200" cy="538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9" idx="6"/>
            <a:endCxn id="393" idx="2"/>
          </p:cNvCxnSpPr>
          <p:nvPr/>
        </p:nvCxnSpPr>
        <p:spPr>
          <a:xfrm flipH="1">
            <a:off x="6670080" y="4625640"/>
            <a:ext cx="657720" cy="108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401" name=""/>
          <p:cNvSpPr/>
          <p:nvPr/>
        </p:nvSpPr>
        <p:spPr>
          <a:xfrm>
            <a:off x="1056600" y="4251240"/>
            <a:ext cx="93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25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1828080" y="5270400"/>
            <a:ext cx="538200" cy="538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2"/>
            <a:endCxn id="378" idx="6"/>
          </p:cNvCxnSpPr>
          <p:nvPr/>
        </p:nvCxnSpPr>
        <p:spPr>
          <a:xfrm>
            <a:off x="2368440" y="5538960"/>
            <a:ext cx="718560" cy="216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 flipH="1">
            <a:off x="3701160" y="3933720"/>
            <a:ext cx="14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1.5Mb, 10m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308E-2691-4DA0-AC73-5C28528FB06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cheduler, tracing, and topolog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Create schedule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ns [new Simulato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Turn on multica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multica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Turn on Trac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fd [new “mcast.nam” w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namtrace-all $f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4702-0ED2-424F-9818-4E1CF2369B3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opolog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Create nod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t n0 [$ns node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t n1 [$ns node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t n2 [$ns node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t n3 [$ns node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Create link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duplex-link $n0 $n1 1.5Mb 10ms DropTai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duplex-link $n0 $n2 1.5Mb 10ms DropTai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duplex-link $n0 $n3 1.5Mb 10ms DropTai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C034-A38F-4D33-8B4F-323FDB88FB0A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outing and group setu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Routing protocol: let’s run distance vect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mrtproto D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Allocate group address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group1 [Node allocadd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group2 [Node allocadd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9F14-4BC5-4A60-B19E-65741E3C238C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4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nder 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Transport agent for the traffic sour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udp0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[new Agent/UDP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attach-agent 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n1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udp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udp0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set dst_addr_ 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group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udp0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set dst_port_ 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Constant Bit Rate source #0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cbr0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[new Application/Traffic/CBR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cbr0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attach-agent 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udp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Start at time 1.0 secon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at 1.0 "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cbr0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start"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0949-C60B-430B-8E40-DCDC23603AE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5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nder 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Transport agent for the traffic sour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udp1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[new Agent/UDP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attach-agent 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n3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udp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udp1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set dst_addr_ 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group2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udp1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set dst_port_ 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Constant Bit Rate source #0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cbr1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[new Application/Traffic/CBR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cbr1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attach-agent 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udp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Start at time 1.1 secon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at 1.1 "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cbr1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start"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77AD-919B-4D83-933B-952620370BB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 Architectu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bject-oriented (C++, OTcl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calability + Exte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trol/”data” separ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plit C++/OTcl ob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dular approac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ne-grained object composi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5087-C306-4728-88EE-FD4810256A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6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ceiver with dynamic membershi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Can also be Agent/Nul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rcvr [new Agent/LossMonito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Assign it to node $n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1.2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"$n2 join-group $rcvr $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group2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1.25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"$n2 leave-group $rcvr $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group2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1.3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"$n2 join-group $rcvr $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group2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1.35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"$n2 join-group $rcvr $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group1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F986-93D8-4DFC-B7E6-F6DAECD86DF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7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d-of-simulation wrapper (as usual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2.0 "finish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proc finish {}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global ns f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close $f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flush-tr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puts "running nam...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exec nam out.nam &amp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exit 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ru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9" name="">
            <a:hlinkClick r:id="rId2"/>
          </p:cNvPr>
          <p:cNvSpPr/>
          <p:nvPr/>
        </p:nvSpPr>
        <p:spPr>
          <a:xfrm>
            <a:off x="8169120" y="5881680"/>
            <a:ext cx="741600" cy="469800"/>
          </a:xfrm>
          <a:custGeom>
            <a:avLst/>
            <a:gdLst>
              <a:gd name="textAreaLeft" fmla="*/ 30240 w 741600"/>
              <a:gd name="textAreaRight" fmla="*/ 711360 w 741600"/>
              <a:gd name="textAreaTop" fmla="*/ 30240 h 469800"/>
              <a:gd name="textAreaBottom" fmla="*/ 439560 h 469800"/>
            </a:gdLst>
            <a:ahLst/>
            <a:rect l="textAreaLeft" t="textAreaTop" r="textAreaRight" b="textAreaBottom"/>
            <a:pathLst>
              <a:path w="34087" h="21600">
                <a:moveTo>
                  <a:pt x="0" y="0"/>
                </a:moveTo>
                <a:lnTo>
                  <a:pt x="34087" y="0"/>
                </a:lnTo>
                <a:lnTo>
                  <a:pt x="34087" y="21600"/>
                </a:lnTo>
                <a:lnTo>
                  <a:pt x="0" y="21600"/>
                </a:lnTo>
                <a:close/>
              </a:path>
              <a:path fill="lightenLess" w="34087" h="21600">
                <a:moveTo>
                  <a:pt x="0" y="0"/>
                </a:moveTo>
                <a:lnTo>
                  <a:pt x="34087" y="0"/>
                </a:lnTo>
                <a:lnTo>
                  <a:pt x="32687" y="1400"/>
                </a:lnTo>
                <a:lnTo>
                  <a:pt x="1400" y="1400"/>
                </a:lnTo>
                <a:close/>
              </a:path>
              <a:path fill="darken" w="34087" h="21600">
                <a:moveTo>
                  <a:pt x="34087" y="0"/>
                </a:moveTo>
                <a:lnTo>
                  <a:pt x="34087" y="21600"/>
                </a:lnTo>
                <a:lnTo>
                  <a:pt x="32687" y="20200"/>
                </a:lnTo>
                <a:lnTo>
                  <a:pt x="32687" y="1400"/>
                </a:lnTo>
                <a:close/>
              </a:path>
              <a:path fill="darkenLess" w="34087" h="21600">
                <a:moveTo>
                  <a:pt x="340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87" y="20200"/>
                </a:lnTo>
                <a:close/>
              </a:path>
              <a:path fill="lighten" w="340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87" h="21600">
                <a:moveTo>
                  <a:pt x="10037" y="7301"/>
                </a:moveTo>
                <a:lnTo>
                  <a:pt x="10951" y="7301"/>
                </a:lnTo>
                <a:lnTo>
                  <a:pt x="11334" y="7667"/>
                </a:lnTo>
                <a:lnTo>
                  <a:pt x="20542" y="7667"/>
                </a:lnTo>
                <a:lnTo>
                  <a:pt x="21099" y="8224"/>
                </a:lnTo>
                <a:lnTo>
                  <a:pt x="21099" y="8772"/>
                </a:lnTo>
                <a:lnTo>
                  <a:pt x="22945" y="8772"/>
                </a:lnTo>
                <a:lnTo>
                  <a:pt x="23310" y="8224"/>
                </a:lnTo>
                <a:lnTo>
                  <a:pt x="24050" y="8224"/>
                </a:lnTo>
                <a:lnTo>
                  <a:pt x="24050" y="13376"/>
                </a:lnTo>
                <a:lnTo>
                  <a:pt x="23310" y="13376"/>
                </a:lnTo>
                <a:lnTo>
                  <a:pt x="22945" y="12828"/>
                </a:lnTo>
                <a:lnTo>
                  <a:pt x="21099" y="12828"/>
                </a:lnTo>
                <a:lnTo>
                  <a:pt x="21099" y="14107"/>
                </a:lnTo>
                <a:lnTo>
                  <a:pt x="11517" y="14107"/>
                </a:lnTo>
                <a:lnTo>
                  <a:pt x="11517" y="9877"/>
                </a:lnTo>
                <a:lnTo>
                  <a:pt x="11334" y="9877"/>
                </a:lnTo>
                <a:lnTo>
                  <a:pt x="10951" y="10243"/>
                </a:lnTo>
                <a:lnTo>
                  <a:pt x="10037" y="10243"/>
                </a:lnTo>
                <a:close/>
              </a:path>
            </a:pathLst>
          </a:cu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E2FE-7495-46E7-A579-7842AB2AD65E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ther Examp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vailable in the Lab this afterno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b traffic mod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ulticast rou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Queue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78C7-A8DF-4C62-8310-22095A01220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 Primer – Wired Worl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Basic 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Two examp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TCP, multicast rout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isualiz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E31C-ED66-478E-9FF6-3E8DEEE3BE3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Visualization Too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nam-1 (Network AniMator Version 1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Packet-level anim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Well supported by 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xgrap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Conversion from ns trace to xgraph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0E22-6EE9-477F-A5C7-6106D83B2D0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asic visualiz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opology layou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nimation contro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ynchronous repla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ne-tune layou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CP/SRM visualiz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ditor: generate ns simulation scrip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8" name="">
            <a:hlinkClick r:id="rId5"/>
          </p:cNvPr>
          <p:cNvSpPr/>
          <p:nvPr/>
        </p:nvSpPr>
        <p:spPr>
          <a:xfrm>
            <a:off x="7942320" y="5676840"/>
            <a:ext cx="765000" cy="451080"/>
          </a:xfrm>
          <a:custGeom>
            <a:avLst/>
            <a:gdLst>
              <a:gd name="textAreaLeft" fmla="*/ 29160 w 765000"/>
              <a:gd name="textAreaRight" fmla="*/ 735840 w 765000"/>
              <a:gd name="textAreaTop" fmla="*/ 29160 h 451080"/>
              <a:gd name="textAreaBottom" fmla="*/ 421920 h 451080"/>
            </a:gdLst>
            <a:ahLst/>
            <a:rect l="textAreaLeft" t="textAreaTop" r="textAreaRight" b="textAreaBottom"/>
            <a:pathLst>
              <a:path w="36620" h="21600">
                <a:moveTo>
                  <a:pt x="0" y="0"/>
                </a:moveTo>
                <a:lnTo>
                  <a:pt x="36620" y="0"/>
                </a:lnTo>
                <a:lnTo>
                  <a:pt x="36620" y="21600"/>
                </a:lnTo>
                <a:lnTo>
                  <a:pt x="0" y="21600"/>
                </a:lnTo>
                <a:close/>
              </a:path>
              <a:path fill="lightenLess" w="36620" h="21600">
                <a:moveTo>
                  <a:pt x="0" y="0"/>
                </a:moveTo>
                <a:lnTo>
                  <a:pt x="36620" y="0"/>
                </a:lnTo>
                <a:lnTo>
                  <a:pt x="35220" y="1400"/>
                </a:lnTo>
                <a:lnTo>
                  <a:pt x="1400" y="1400"/>
                </a:lnTo>
                <a:close/>
              </a:path>
              <a:path fill="darken" w="36620" h="21600">
                <a:moveTo>
                  <a:pt x="36620" y="0"/>
                </a:moveTo>
                <a:lnTo>
                  <a:pt x="36620" y="21600"/>
                </a:lnTo>
                <a:lnTo>
                  <a:pt x="35220" y="20200"/>
                </a:lnTo>
                <a:lnTo>
                  <a:pt x="35220" y="1400"/>
                </a:lnTo>
                <a:close/>
              </a:path>
              <a:path fill="darkenLess" w="36620" h="21600">
                <a:moveTo>
                  <a:pt x="36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20" y="20200"/>
                </a:lnTo>
                <a:close/>
              </a:path>
              <a:path fill="lighten" w="36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620" h="21600">
                <a:moveTo>
                  <a:pt x="11304" y="7301"/>
                </a:moveTo>
                <a:lnTo>
                  <a:pt x="12217" y="7301"/>
                </a:lnTo>
                <a:lnTo>
                  <a:pt x="12600" y="7667"/>
                </a:lnTo>
                <a:lnTo>
                  <a:pt x="21809" y="7667"/>
                </a:lnTo>
                <a:lnTo>
                  <a:pt x="22366" y="8224"/>
                </a:lnTo>
                <a:lnTo>
                  <a:pt x="22366" y="8772"/>
                </a:lnTo>
                <a:lnTo>
                  <a:pt x="24211" y="8772"/>
                </a:lnTo>
                <a:lnTo>
                  <a:pt x="24577" y="8224"/>
                </a:lnTo>
                <a:lnTo>
                  <a:pt x="25317" y="8224"/>
                </a:lnTo>
                <a:lnTo>
                  <a:pt x="25317" y="13376"/>
                </a:lnTo>
                <a:lnTo>
                  <a:pt x="24577" y="13376"/>
                </a:lnTo>
                <a:lnTo>
                  <a:pt x="24211" y="12828"/>
                </a:lnTo>
                <a:lnTo>
                  <a:pt x="22366" y="12828"/>
                </a:lnTo>
                <a:lnTo>
                  <a:pt x="22366" y="14107"/>
                </a:lnTo>
                <a:lnTo>
                  <a:pt x="12783" y="14107"/>
                </a:lnTo>
                <a:lnTo>
                  <a:pt x="12783" y="9877"/>
                </a:lnTo>
                <a:lnTo>
                  <a:pt x="12600" y="9877"/>
                </a:lnTo>
                <a:lnTo>
                  <a:pt x="12217" y="10243"/>
                </a:lnTo>
                <a:lnTo>
                  <a:pt x="11304" y="10243"/>
                </a:lnTo>
                <a:close/>
              </a:path>
            </a:pathLst>
          </a:cu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B26E-EAE0-4C17-B50A-03A0B758F23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</a:t>
            </a:r>
            <a:r>
              <a:rPr b="0" lang="en-US" sz="44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 Interf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l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de manipul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nk manipul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opology layou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tocol stat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is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57F8-69BA-4DD1-ADF0-3DE4521FF6E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 Interface: Col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lor mapp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color 40 r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color 41 blu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color 42 chocola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lor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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flow id associ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tcp0 set fid_ 40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;# red packe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tcp1 set fid_ 41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;# blue packe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6F9E-5636-4146-B083-70FC1145B4D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 Interface: Nod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l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ode color re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hape (can’t be changed after sim start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ode shape box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;# circle, box, hexag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rks (concentric “shapes”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at 1.0 “$n0 add-mark m0 blue box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at 2.0 “$n0 delete-mark m0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bel (single string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at 1.1 “$n0 label \”web cache 0\”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9CE7-F79F-45F8-B55D-68B299C9C82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 Interfaces: Lin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l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duplex-link-op $n0 $n1 color "green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b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duplex-link-op $n0 $n1 label "abced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ynamics (automatically handled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rtmodel Deterministic {2.0 0.9 0.1} $n0 $n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symmetric links not allow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8274-2BBD-4B89-B9BB-87A96131861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ject-Orient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58c"/>
              </a:buClr>
              <a:buSzPct val="85000"/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usa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40458c"/>
              </a:buClr>
              <a:buSzPct val="85000"/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40458c"/>
              </a:buClr>
              <a:buSzPct val="8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formance (speed and memory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40458c"/>
              </a:buClr>
              <a:buSzPct val="8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areful planning of modular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79DA-630E-433C-84EA-7250F4383C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 Interface: Topo 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Manual” layout: specify everything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duplex-link-op $n(0) $n(1) orient righ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duplex-link-op $n(1) $n(2) orient righ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duplex-link-op $n(2) $n(3) orient righ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duplex-link-op $n(3) $n(4) orient 60de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If anything missing </a:t>
            </a:r>
            <a:r>
              <a:rPr b="0" lang="en-US" sz="3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 automatic layout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3F0F-2712-4F87-9E16-F3342C3BF25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 Interface: Protocol Sta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nitor values of agent variab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add-agent-trace $srm0 srm_agent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monitor-agent-trace $srm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srm0 tracevar C1_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srm0 tracevar C2_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# … 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delete-agent-trace $tcp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D48D-5781-4893-B15A-83DC81F894A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 Interface: Misc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040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not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dd textual explaination to your si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3.5 "$ns trace-annotate \“packet drop\"“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t animation rat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0.0 "$ns set-animation-rate 0.1ms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3B49-38CA-4090-85AA-86B3064722D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6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Multicast Example: nam-Enhanced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cket color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de col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de lab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nk lab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not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anual layou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Queue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6736-CC7D-4CD2-A584-DF5C9E45546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1.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90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fine nam col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# Colors for packets from two mcast group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color 10 blu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color 11 r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# Prune packets (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predefined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color 30 purp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# Graft packe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color 31 gre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D08E-DA26-4DEE-8F23-650037C81BF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2.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yout topolog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Manual layout: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order of the link is significan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duplex-link-op $n0 $n1 orient righ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duplex-link-op $n0 $n2 orient right-up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duplex-link-op $n0 $n3 orient right-dow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Show queue on simplex link n0-&gt;n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duplex-link-op $n0 $n1 queuePos 0.5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29CF-424F-4529-856E-16DFD1D19CD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4.1, 5.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urce color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Group 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udp0 set fid_ 1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1 color blu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1 label “Source for group 0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Group 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udp1 set fid_ 1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3 color re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3 label “Source for group 1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A907-4277-4E0E-A97D-68B7EFD09CE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6.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004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ceiver color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2 label “Receiver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1.2 "$n2 join-group $rcvr $group2; \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2 add-mark m0 red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1.25 "$n2 leave-group $rcvr  $group2; \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2 delete-mark m0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1.3 "$n2 join-group $rcvr \ $group2; \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2 add-mark m1 red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1.35 "$n2 join-group $rcvr $group1; \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2 add-mark m2 blue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B873-F449-4DC0-9F28-DC71ED6A9B7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7.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ne final twea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# Animation was too fast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set-animation-rate 0.8m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5" name="">
            <a:hlinkClick r:id="rId2"/>
          </p:cNvPr>
          <p:cNvSpPr/>
          <p:nvPr/>
        </p:nvSpPr>
        <p:spPr>
          <a:xfrm>
            <a:off x="8078760" y="5800680"/>
            <a:ext cx="831960" cy="519120"/>
          </a:xfrm>
          <a:custGeom>
            <a:avLst/>
            <a:gdLst>
              <a:gd name="textAreaLeft" fmla="*/ 33480 w 831960"/>
              <a:gd name="textAreaRight" fmla="*/ 798480 w 831960"/>
              <a:gd name="textAreaTop" fmla="*/ 33480 h 519120"/>
              <a:gd name="textAreaBottom" fmla="*/ 485640 h 519120"/>
            </a:gdLst>
            <a:ahLst/>
            <a:rect l="textAreaLeft" t="textAreaTop" r="textAreaRight" b="textAreaBottom"/>
            <a:pathLst>
              <a:path w="34608" h="21600">
                <a:moveTo>
                  <a:pt x="0" y="0"/>
                </a:moveTo>
                <a:lnTo>
                  <a:pt x="34608" y="0"/>
                </a:lnTo>
                <a:lnTo>
                  <a:pt x="34608" y="21600"/>
                </a:lnTo>
                <a:lnTo>
                  <a:pt x="0" y="21600"/>
                </a:lnTo>
                <a:close/>
              </a:path>
              <a:path fill="lightenLess" w="34608" h="21600">
                <a:moveTo>
                  <a:pt x="0" y="0"/>
                </a:moveTo>
                <a:lnTo>
                  <a:pt x="34608" y="0"/>
                </a:lnTo>
                <a:lnTo>
                  <a:pt x="33208" y="1400"/>
                </a:lnTo>
                <a:lnTo>
                  <a:pt x="1400" y="1400"/>
                </a:lnTo>
                <a:close/>
              </a:path>
              <a:path fill="darken" w="34608" h="21600">
                <a:moveTo>
                  <a:pt x="34608" y="0"/>
                </a:moveTo>
                <a:lnTo>
                  <a:pt x="34608" y="21600"/>
                </a:lnTo>
                <a:lnTo>
                  <a:pt x="33208" y="20200"/>
                </a:lnTo>
                <a:lnTo>
                  <a:pt x="33208" y="1400"/>
                </a:lnTo>
                <a:close/>
              </a:path>
              <a:path fill="darkenLess" w="34608" h="21600">
                <a:moveTo>
                  <a:pt x="34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08" y="20200"/>
                </a:lnTo>
                <a:close/>
              </a:path>
              <a:path fill="lighten" w="34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608" h="21600">
                <a:moveTo>
                  <a:pt x="10297" y="7301"/>
                </a:moveTo>
                <a:lnTo>
                  <a:pt x="11211" y="7301"/>
                </a:lnTo>
                <a:lnTo>
                  <a:pt x="11594" y="7667"/>
                </a:lnTo>
                <a:lnTo>
                  <a:pt x="20803" y="7667"/>
                </a:lnTo>
                <a:lnTo>
                  <a:pt x="21360" y="8224"/>
                </a:lnTo>
                <a:lnTo>
                  <a:pt x="21360" y="8772"/>
                </a:lnTo>
                <a:lnTo>
                  <a:pt x="23205" y="8772"/>
                </a:lnTo>
                <a:lnTo>
                  <a:pt x="23571" y="8224"/>
                </a:lnTo>
                <a:lnTo>
                  <a:pt x="24310" y="8224"/>
                </a:lnTo>
                <a:lnTo>
                  <a:pt x="24310" y="13376"/>
                </a:lnTo>
                <a:lnTo>
                  <a:pt x="23571" y="13376"/>
                </a:lnTo>
                <a:lnTo>
                  <a:pt x="23205" y="12828"/>
                </a:lnTo>
                <a:lnTo>
                  <a:pt x="21360" y="12828"/>
                </a:lnTo>
                <a:lnTo>
                  <a:pt x="21360" y="14107"/>
                </a:lnTo>
                <a:lnTo>
                  <a:pt x="11777" y="14107"/>
                </a:lnTo>
                <a:lnTo>
                  <a:pt x="11777" y="9877"/>
                </a:lnTo>
                <a:lnTo>
                  <a:pt x="11594" y="9877"/>
                </a:lnTo>
                <a:lnTo>
                  <a:pt x="11211" y="10243"/>
                </a:lnTo>
                <a:lnTo>
                  <a:pt x="10297" y="10243"/>
                </a:lnTo>
                <a:close/>
              </a:path>
            </a:pathLst>
          </a:cu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2ADF-B3C4-4B28-9EE3-5196D4C4B17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++ and OTcl Separ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++ for “data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 packet a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Tcl for contro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iodic or triggered a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40458c"/>
              </a:buClr>
              <a:buSzPct val="85000"/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romise between composibility and spe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40458c"/>
              </a:buClr>
              <a:buSzPct val="8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ing and debugg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D0A8-A32D-476F-96FA-5681085252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Tcl and C++: The Dualit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1106640" y="1843200"/>
            <a:ext cx="3236760" cy="39621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88960" y="2557440"/>
            <a:ext cx="38124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717560" y="2252520"/>
            <a:ext cx="38124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22480" y="255744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1717560" y="2405160"/>
            <a:ext cx="15264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2480" y="240516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81440" y="3828960"/>
            <a:ext cx="38088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652840" y="413388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62320" y="413388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67240" y="443880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57400" y="4438800"/>
            <a:ext cx="38124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804760" y="398160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86000" y="3981600"/>
            <a:ext cx="30492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3185640" y="4286160"/>
            <a:ext cx="22860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67240" y="4286160"/>
            <a:ext cx="22860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1843200"/>
            <a:ext cx="3625920" cy="39621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89680" y="2489040"/>
            <a:ext cx="38124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18280" y="2184480"/>
            <a:ext cx="38124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423200" y="2489040"/>
            <a:ext cx="38088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7118280" y="2336760"/>
            <a:ext cx="15264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423200" y="233676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938840" y="306720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10240" y="3371760"/>
            <a:ext cx="38088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19720" y="3371760"/>
            <a:ext cx="38088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24640" y="367668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14800" y="3676680"/>
            <a:ext cx="38124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862160" y="321948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243400" y="3219480"/>
            <a:ext cx="30492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243040" y="352440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624640" y="352440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48840" y="5283360"/>
            <a:ext cx="7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++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314480" y="528804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T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67240" y="3092400"/>
            <a:ext cx="1676160" cy="1041480"/>
          </a:xfrm>
          <a:custGeom>
            <a:avLst/>
            <a:gdLst/>
            <a:ahLst/>
            <a:rect l="l" t="t" r="r" b="b"/>
            <a:pathLst>
              <a:path w="1056" h="656">
                <a:moveTo>
                  <a:pt x="0" y="656"/>
                </a:moveTo>
                <a:cubicBezTo>
                  <a:pt x="104" y="408"/>
                  <a:pt x="208" y="160"/>
                  <a:pt x="384" y="80"/>
                </a:cubicBezTo>
                <a:cubicBezTo>
                  <a:pt x="560" y="0"/>
                  <a:pt x="944" y="160"/>
                  <a:pt x="1056" y="176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62320" y="3905280"/>
            <a:ext cx="2158920" cy="1028520"/>
          </a:xfrm>
          <a:custGeom>
            <a:avLst/>
            <a:gdLst/>
            <a:ahLst/>
            <a:rect l="l" t="t" r="r" b="b"/>
            <a:pathLst>
              <a:path w="1360" h="648">
                <a:moveTo>
                  <a:pt x="0" y="432"/>
                </a:moveTo>
                <a:cubicBezTo>
                  <a:pt x="472" y="540"/>
                  <a:pt x="944" y="648"/>
                  <a:pt x="1152" y="576"/>
                </a:cubicBezTo>
                <a:cubicBezTo>
                  <a:pt x="1360" y="504"/>
                  <a:pt x="1232" y="96"/>
                  <a:pt x="1248" y="0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71800" y="3905280"/>
            <a:ext cx="2082960" cy="1028520"/>
          </a:xfrm>
          <a:custGeom>
            <a:avLst/>
            <a:gdLst/>
            <a:ahLst/>
            <a:rect l="l" t="t" r="r" b="b"/>
            <a:pathLst>
              <a:path w="1312" h="648">
                <a:moveTo>
                  <a:pt x="0" y="432"/>
                </a:moveTo>
                <a:cubicBezTo>
                  <a:pt x="448" y="540"/>
                  <a:pt x="896" y="648"/>
                  <a:pt x="1104" y="576"/>
                </a:cubicBezTo>
                <a:cubicBezTo>
                  <a:pt x="1312" y="504"/>
                  <a:pt x="1280" y="252"/>
                  <a:pt x="1248" y="0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28800" y="3016080"/>
            <a:ext cx="1905120" cy="1117800"/>
          </a:xfrm>
          <a:custGeom>
            <a:avLst/>
            <a:gdLst/>
            <a:ahLst/>
            <a:rect l="l" t="t" r="r" b="b"/>
            <a:pathLst>
              <a:path w="1200" h="704">
                <a:moveTo>
                  <a:pt x="0" y="704"/>
                </a:moveTo>
                <a:cubicBezTo>
                  <a:pt x="68" y="432"/>
                  <a:pt x="136" y="160"/>
                  <a:pt x="336" y="80"/>
                </a:cubicBezTo>
                <a:cubicBezTo>
                  <a:pt x="536" y="0"/>
                  <a:pt x="868" y="112"/>
                  <a:pt x="1200" y="224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86000" y="2787480"/>
            <a:ext cx="1676520" cy="1041480"/>
          </a:xfrm>
          <a:custGeom>
            <a:avLst/>
            <a:gdLst/>
            <a:ahLst/>
            <a:rect l="l" t="t" r="r" b="b"/>
            <a:pathLst>
              <a:path w="1056" h="656">
                <a:moveTo>
                  <a:pt x="0" y="656"/>
                </a:moveTo>
                <a:cubicBezTo>
                  <a:pt x="80" y="408"/>
                  <a:pt x="160" y="160"/>
                  <a:pt x="336" y="80"/>
                </a:cubicBezTo>
                <a:cubicBezTo>
                  <a:pt x="512" y="0"/>
                  <a:pt x="784" y="88"/>
                  <a:pt x="1056" y="176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03640" y="2765520"/>
            <a:ext cx="1151640" cy="6426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re C++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bjec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37040" y="2725560"/>
            <a:ext cx="1218600" cy="6426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re OTc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bjec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68800" y="4998960"/>
            <a:ext cx="2468520" cy="6426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++/OTcl split objec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14400" y="1654200"/>
            <a:ext cx="7504200" cy="46926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211640" y="590400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354A-FD83-40E0-9CDA-EF029A5BE7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tending Tcl Interpret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715760"/>
            <a:ext cx="4289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Tcl: object-oriented 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clCL: C++ and OTcl link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screte event schedul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ata network compone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nk layer and u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mulation suppor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5159520" y="4441680"/>
            <a:ext cx="1066680" cy="6858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159520" y="3908520"/>
            <a:ext cx="1523880" cy="1218960"/>
            <a:chOff x="5159520" y="3908520"/>
            <a:chExt cx="1523880" cy="1218960"/>
          </a:xfrm>
        </p:grpSpPr>
        <p:sp>
          <p:nvSpPr>
            <p:cNvPr id="279" name=""/>
            <p:cNvSpPr/>
            <p:nvPr/>
          </p:nvSpPr>
          <p:spPr>
            <a:xfrm>
              <a:off x="5159520" y="3908520"/>
              <a:ext cx="1523880" cy="12189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57120" y="3976560"/>
              <a:ext cx="81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OTc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157720" y="3375000"/>
            <a:ext cx="2447640" cy="1752480"/>
            <a:chOff x="5157720" y="3375000"/>
            <a:chExt cx="2447640" cy="1752480"/>
          </a:xfrm>
        </p:grpSpPr>
        <p:sp>
          <p:nvSpPr>
            <p:cNvPr id="282" name=""/>
            <p:cNvSpPr/>
            <p:nvPr/>
          </p:nvSpPr>
          <p:spPr>
            <a:xfrm>
              <a:off x="5157720" y="3375000"/>
              <a:ext cx="2447640" cy="175248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360" y="3443400"/>
              <a:ext cx="92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TclC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5119920" y="575136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-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159520" y="2460600"/>
            <a:ext cx="3568680" cy="2666880"/>
            <a:chOff x="5159520" y="2460600"/>
            <a:chExt cx="3568680" cy="2666880"/>
          </a:xfrm>
        </p:grpSpPr>
        <p:sp>
          <p:nvSpPr>
            <p:cNvPr id="286" name=""/>
            <p:cNvSpPr/>
            <p:nvPr/>
          </p:nvSpPr>
          <p:spPr>
            <a:xfrm rot="5400000">
              <a:off x="7292520" y="3791880"/>
              <a:ext cx="1610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Event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Schedule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159520" y="2460600"/>
              <a:ext cx="3568680" cy="266688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02520" y="2503440"/>
              <a:ext cx="2020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etwork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Component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5159520" y="5130720"/>
            <a:ext cx="3568680" cy="5558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33560" y="517680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/C++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A9CE-D4E2-4FE5-8BC1-412D27720E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ello World - Interactive Mo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swallow 71%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% set ns [new Simulator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_o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% $ns at 1 “puts \“Hello World!\”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% $ns at 1.5 “exit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% $ns ru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Hello World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swallow 72%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29AB-13E2-49E8-BF08-B7C2677CF7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7:31:36Z</dcterms:created>
  <dc:creator>Haobo Yu</dc:creator>
  <dc:description/>
  <dc:language>en-US</dc:language>
  <cp:lastModifiedBy>Haobo Yu</cp:lastModifiedBy>
  <cp:lastPrinted>1999-06-12T08:44:34Z</cp:lastPrinted>
  <dcterms:modified xsi:type="dcterms:W3CDTF">2000-06-28T23:36:37Z</dcterms:modified>
  <cp:revision>698</cp:revision>
  <dc:subject/>
  <dc:title>ns-2 tutorial for IEC'00 workshop</dc:title>
</cp:coreProperties>
</file>