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16219"/>
        <c:axId val="21194863"/>
      </c:barChart>
      <c:catAx>
        <c:axId val="5201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94863"/>
        <c:crosses val="autoZero"/>
        <c:auto val="1"/>
        <c:lblAlgn val="ctr"/>
        <c:lblOffset val="100"/>
        <c:noMultiLvlLbl val="0"/>
      </c:catAx>
      <c:valAx>
        <c:axId val="21194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1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FCE-93AF-4499-8E40-B53E6412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545-9445-4503-BED9-8977CA3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4CA-FBE5-4175-B2E5-EEE4B2E5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3F6-A6BC-4BB2-867C-A55E6A6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214-ECA3-465A-BACB-AF230687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D8E-8B10-437B-ACC0-A28D762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13D-C62C-4C97-864C-65FDDBC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C68-850F-4D52-BD51-5117CD6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A33-84AC-4852-9396-6047570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402-2376-4E72-879C-4CF1843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E72-075E-4C0A-A08E-C0A5D79C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671-A913-4D19-BD97-9169BC8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F5D4-A1A2-4CA5-B95D-5839D6D2A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