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71956"/>
        <c:axId val="30262124"/>
      </c:barChart>
      <c:catAx>
        <c:axId val="72971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2124"/>
        <c:crosses val="autoZero"/>
        <c:auto val="1"/>
        <c:lblAlgn val="ctr"/>
        <c:lblOffset val="100"/>
        <c:noMultiLvlLbl val="0"/>
      </c:catAx>
      <c:valAx>
        <c:axId val="30262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71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AC8-E58A-4876-81C4-4F049AA2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920-777F-4BC8-95F1-A657E873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2C6-2622-4341-B8C1-41859B13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4F6-3CE8-4436-846D-F3661D39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B11-E93C-430B-B41B-039F2600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0ED-4381-4115-A45D-5C29CA0E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29A-93F7-4C1B-A08A-CE72C372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C65-81DC-4537-819F-F03E0289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243-F0C2-49BF-B4A8-CA56BA53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894-A70B-47C3-93B7-5AD47FD5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76A-774A-4836-AC76-D8904C84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B96-D71F-46A5-9AAE-B8F37339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2313D-BF59-423A-9922-3A331A37C5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