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5817"/>
        <c:axId val="42021671"/>
      </c:barChart>
      <c:catAx>
        <c:axId val="2795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1671"/>
        <c:crosses val="autoZero"/>
        <c:auto val="1"/>
        <c:lblAlgn val="ctr"/>
        <c:lblOffset val="100"/>
        <c:noMultiLvlLbl val="0"/>
      </c:catAx>
      <c:valAx>
        <c:axId val="42021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3F4-1533-487F-B086-0B85DABD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5A2-8808-4709-AC8C-ED0E07B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78D-2A9E-4E5E-9B2B-ECFBE10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735-D670-49FD-A441-5EE11A1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7DB-CAF7-4CD4-A359-BCC477F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D59-9B17-426B-9E19-0EF076A2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F3B-B1B2-4C28-890D-13B8879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E8B-4F54-4289-B72D-E372E25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2DF-E7EB-4B6B-9882-2934EC9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A5F-5C20-405D-B127-6F2C8FE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F10-F086-47FD-9B00-0271341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731-85DD-4246-ACD6-CB282A5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51E9A-CEC2-4A0C-96EE-1C6D62A9E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