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65602"/>
        <c:axId val="24258693"/>
      </c:barChart>
      <c:catAx>
        <c:axId val="77465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58693"/>
        <c:crosses val="autoZero"/>
        <c:auto val="1"/>
        <c:lblAlgn val="ctr"/>
        <c:lblOffset val="100"/>
        <c:noMultiLvlLbl val="0"/>
      </c:catAx>
      <c:valAx>
        <c:axId val="242586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65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159-3DD2-4DE1-ADC6-D958B275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FD7-7A48-49F1-90B1-221C3D7D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707-7547-4FC1-AE51-8E83DC6E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8A0-317D-4AB5-AC9F-D36D0EAF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FE1F-9B4E-470C-A653-227184E3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CEF-8F07-43E8-88C2-D06A92CC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85E-0AC1-4B75-B7D7-20A38884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A626-84E7-4F0E-8CFA-70688791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9448-4361-4D13-A50D-D9ADC41E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A44-53B3-4C9A-9CDD-7184D234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298-F06D-46C2-B572-C0EF7AEC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6C1-4D42-46D6-AC87-22046BE1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4B3F7-5DC4-40DA-9DA8-C4ABF862D4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