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95786"/>
        <c:axId val="837446"/>
      </c:barChart>
      <c:catAx>
        <c:axId val="39995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46"/>
        <c:crosses val="autoZero"/>
        <c:auto val="1"/>
        <c:lblAlgn val="ctr"/>
        <c:lblOffset val="100"/>
        <c:noMultiLvlLbl val="0"/>
      </c:catAx>
      <c:valAx>
        <c:axId val="837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95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1FE-C0E1-4E38-8D3B-CD31C46C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783-C7DD-4E3F-BEC2-43E865B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157-845D-4863-80BD-1C360991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035-92CE-4B3A-8FBB-BD785C8B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990-10A3-474D-AC0E-885D4F97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FA6-07E1-46E5-8282-45B1811F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86C-AADB-444C-B8EA-E40D79E6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515-86E6-4B0E-91D9-7A828FB4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9A6-B1D7-418B-8A5B-51FFCB52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E43-E810-4AFC-A3B5-A4A1AAC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7D6-45E9-480D-A73F-ED5E7CE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DA6-5D93-4A6D-97E6-8F55667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DE903-B2D1-45DD-97CF-24222A025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