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18949"/>
        <c:axId val="10298148"/>
      </c:barChart>
      <c:catAx>
        <c:axId val="88418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8148"/>
        <c:crosses val="autoZero"/>
        <c:auto val="1"/>
        <c:lblAlgn val="ctr"/>
        <c:lblOffset val="100"/>
        <c:noMultiLvlLbl val="0"/>
      </c:catAx>
      <c:valAx>
        <c:axId val="10298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18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0B1-AA0B-40AE-B83C-7B6F579B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7D3-C5F9-4A5F-B08E-18CE34F2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89F-EBF1-4919-894E-C3D5BABF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473-15A5-4D8B-8604-D1693AC9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FD2-23D8-4340-BB6B-A621A8B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C3A-6B0C-401F-9154-935C2EFB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B92-2244-492B-9F7A-759FBF82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DD9-F05F-4436-A300-492EC99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B46-0985-4DD9-9DA9-C864AC6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E54-1702-4299-B353-5D8C947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D13-F7E5-4D3D-8390-271E1CE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969-A965-47C1-9613-27E5AC3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7DEFE-BFD9-4922-A642-7972F5D0D5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