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37366"/>
        <c:axId val="4072293"/>
      </c:barChart>
      <c:catAx>
        <c:axId val="91437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2293"/>
        <c:crosses val="autoZero"/>
        <c:auto val="1"/>
        <c:lblAlgn val="ctr"/>
        <c:lblOffset val="100"/>
        <c:noMultiLvlLbl val="0"/>
      </c:catAx>
      <c:valAx>
        <c:axId val="4072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37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9A4-B2EE-4161-81C7-1E97CD86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44B-F543-48FF-8835-1E42C802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E19-CDAA-4154-A0E6-727151DC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1F1-6A77-4EF5-9A21-F27AC453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B2E-7BD5-4611-9B1E-E658E37C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B48-8B04-40AC-BB87-D6972FFF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E58-0969-4FF2-B026-ADC3DC97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48E-9608-45CC-941A-18BC6B9A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3A6-6511-4DDE-B657-D8A07518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287-B6C9-480D-9113-7AFA2BEE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A31-591C-4FDB-9217-839121B0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68D-4BBC-4FC9-85F6-E86C85B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6CF42-90B7-484A-B389-F6F41FA226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