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57527"/>
        <c:axId val="8377079"/>
      </c:barChart>
      <c:catAx>
        <c:axId val="77057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079"/>
        <c:crosses val="autoZero"/>
        <c:auto val="1"/>
        <c:lblAlgn val="ctr"/>
        <c:lblOffset val="100"/>
        <c:noMultiLvlLbl val="0"/>
      </c:catAx>
      <c:valAx>
        <c:axId val="8377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57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281-6986-47B4-AADD-301ECAFE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2FF-D841-49E4-8884-74D4F5F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F33-0BEC-4005-8C21-6C810F60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012-C6AC-4918-85D5-62B5186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72A-F3B7-4C3A-90DD-29DAE3F8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1AA-A1F5-4D27-B322-9BBE9EF1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BD3-A7A8-465B-A289-F713D8D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87D-EF96-493A-8ABD-11EFED4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558-4C08-447E-B83C-1665D303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8F4-B355-4229-8A57-E9261FE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BD3-5492-4E2A-BC11-89A9BB9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AD2-6550-4484-910C-00AD935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7A620-11B2-4EAA-B3D1-996DF319F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