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70977"/>
        <c:axId val="54830885"/>
      </c:barChart>
      <c:catAx>
        <c:axId val="45070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30885"/>
        <c:crosses val="autoZero"/>
        <c:auto val="1"/>
        <c:lblAlgn val="ctr"/>
        <c:lblOffset val="100"/>
        <c:noMultiLvlLbl val="0"/>
      </c:catAx>
      <c:valAx>
        <c:axId val="54830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70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4B9-D9CA-4D1D-A354-2DFFED9B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EC7-CF73-41A3-9EF5-4F4E5C0E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33C-2693-4E85-9569-12187365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BBE-F605-4D6A-8C5B-F45D20FA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58E-F107-4854-8BE4-B95A094A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D93-C461-4857-9990-618F7F13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765-A51C-4739-B02F-1F5C0149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84B-A1D1-4004-9C58-F37DF8F1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674-FA79-443D-B4EB-FB522FC2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08C-CF01-4BAC-9B60-8910E701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87C-CE1D-4E61-8E8B-7943B8AE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0C0-8A7B-4F33-9C83-33E480EF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2764E-29B2-444C-9110-D7242B44FD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