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99858"/>
        <c:axId val="54096010"/>
      </c:barChart>
      <c:catAx>
        <c:axId val="89699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96010"/>
        <c:crosses val="autoZero"/>
        <c:auto val="1"/>
        <c:lblAlgn val="ctr"/>
        <c:lblOffset val="100"/>
        <c:noMultiLvlLbl val="0"/>
      </c:catAx>
      <c:valAx>
        <c:axId val="54096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99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86C-8375-4E98-9A19-00F82BC2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4E0B-203E-4E7C-825C-AA0B1FC9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BD9-B55C-4068-A76F-2BF0671F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1B8-2DEF-43F7-A21C-CD5242AF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5B1-6FBF-481A-8A9D-C11C6C92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C88-A7D6-4EB2-8A58-EFD00805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EF6-8C47-4AF3-93BE-1B548AFC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D55-0842-461C-B8E3-215B7078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856-06F8-4E07-9336-26A4447E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638-607A-4D37-A9E2-E053F36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69F-DBC3-4310-BEDD-9FA4F07E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C38-10B7-4AD6-82A2-520F1348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1626D-8D7B-4132-A289-23F87C8DAE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