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80297"/>
        <c:axId val="97553155"/>
      </c:barChart>
      <c:catAx>
        <c:axId val="79080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3155"/>
        <c:crosses val="autoZero"/>
        <c:auto val="1"/>
        <c:lblAlgn val="ctr"/>
        <c:lblOffset val="100"/>
        <c:noMultiLvlLbl val="0"/>
      </c:catAx>
      <c:valAx>
        <c:axId val="975531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80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BAFB-0484-4CA6-8FC9-919E8AC7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E48-69AB-496A-A61C-792BDF82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9FA-5D5E-41F1-B39A-CA739414F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10F6-690C-4D3F-9750-8240DDE1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A318-7611-4799-B616-959BA51A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7A12-4998-478C-900F-DB00F75C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8EF-FB4B-4997-A24F-FE011581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410-EBA1-479C-A877-76F15EB7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5F14-BF57-423B-B042-5B33CB2F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1E3-5D38-4087-A73B-14B5986B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462-331D-4E36-8AA4-D23CCE0A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1FF-EE7D-4927-B3BA-5994CC18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3D749-0080-4231-8B2C-314247340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