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038149"/>
        <c:axId val="71443325"/>
      </c:barChart>
      <c:catAx>
        <c:axId val="870381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443325"/>
        <c:crosses val="autoZero"/>
        <c:auto val="1"/>
        <c:lblAlgn val="ctr"/>
        <c:lblOffset val="100"/>
        <c:noMultiLvlLbl val="0"/>
      </c:catAx>
      <c:valAx>
        <c:axId val="714433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0381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DC3A-67AD-4BD2-91A4-AF3818014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B888-530F-4624-85D1-B85DFEDDB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174C-EB41-4EC8-9ABB-DA193E9D8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706D-EDBE-46B5-A8E6-1212CEF9D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6C44-8BD0-4D0A-9BAA-5D908796C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BAF7-293F-4A31-AC4F-B88257C9A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3DE5-D21D-4F55-AAD6-7C0173C7E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F09C-812B-4BEC-BD08-ECC6D01FC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386C-8659-4D9E-AE8F-01D957A60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6BFC-8C9C-44DC-932E-92847B22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231A-23C1-4528-91EC-F039FC0B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9C69-B556-4E21-971C-7374D32B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F0C3B9-F0EE-4054-A693-4A4D28902C5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