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90389"/>
        <c:axId val="46956977"/>
      </c:barChart>
      <c:catAx>
        <c:axId val="349903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56977"/>
        <c:crosses val="autoZero"/>
        <c:auto val="1"/>
        <c:lblAlgn val="ctr"/>
        <c:lblOffset val="100"/>
        <c:noMultiLvlLbl val="0"/>
      </c:catAx>
      <c:valAx>
        <c:axId val="46956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903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093-6A4A-4DDA-90CF-5BBAA44A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79D4-48ED-4D91-BB38-50CFD3F6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35B-9512-4442-B969-423CA2E8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8E8-E734-4A9B-8736-E80373B2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13C-9E5C-426A-84FB-C1F45087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C75-9F7E-4AAA-944B-EB2FA3E9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CDA-4191-4BE8-A296-9D484147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3F0-7D91-4C19-B5D4-C940FD90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A78-1463-4EDE-9EA7-C93B0376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0BD-061F-4A72-B53C-DEEE2EF9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BDE5-0E61-433D-ADB2-571BA4DF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EA7-6223-4051-A153-15B384D9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9EB4F-2482-4243-A372-5B89DE51D5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