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26654"/>
        <c:axId val="34650818"/>
      </c:barChart>
      <c:catAx>
        <c:axId val="82026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650818"/>
        <c:crosses val="autoZero"/>
        <c:auto val="1"/>
        <c:lblAlgn val="ctr"/>
        <c:lblOffset val="100"/>
        <c:noMultiLvlLbl val="0"/>
      </c:catAx>
      <c:valAx>
        <c:axId val="346508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6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95D-2AF2-4872-BB9B-088AF5AF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BE4-C7E0-45F2-A057-DEC724DA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8E01-D427-4C00-8A80-22C2CDE0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976-CFA0-46A7-A720-5BE63FD6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3A68-FE73-4286-AE5B-77E823C8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8737-D091-4A5B-BACC-5C02514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5ED1-B657-49D2-9255-9ACF555E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A86-1B9A-4902-89F3-AD6C5B8B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CE5-EABA-4765-A930-FA8D09E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B8-4B0E-404E-B384-2FEC167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E085-BD08-4BB5-BD05-A44B5C3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AC5E-87E1-4CDE-9D2F-88F1DD94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52281-8194-46EB-B760-93F0878D43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