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97078"/>
        <c:axId val="36295087"/>
      </c:barChart>
      <c:catAx>
        <c:axId val="36197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95087"/>
        <c:crosses val="autoZero"/>
        <c:auto val="1"/>
        <c:lblAlgn val="ctr"/>
        <c:lblOffset val="100"/>
        <c:noMultiLvlLbl val="0"/>
      </c:catAx>
      <c:valAx>
        <c:axId val="36295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97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CA1-BE1D-491C-8DA3-C83941E6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B84-9E49-4C3E-840D-D33744A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5DA-53BF-489F-8ED7-E5B60F89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5E2-0310-4120-A90F-0928E8E7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0F0A-A3FB-4A91-BA85-514A2F1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F61-ED50-4D2D-AD61-C22777E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418-AADF-4225-8ABC-A74E58A1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A331-2031-4588-8516-0293F4DF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3A5-501D-45EE-A606-931D6D88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39F-FED4-4157-899B-C8244C9C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11E-9063-42E7-BC6A-E612FFB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E71-D1DA-4D1F-B884-5889267A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08E21-795C-4295-8FBE-C3FF254006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