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876858"/>
        <c:axId val="49190816"/>
      </c:barChart>
      <c:catAx>
        <c:axId val="938768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90816"/>
        <c:crosses val="autoZero"/>
        <c:auto val="1"/>
        <c:lblAlgn val="ctr"/>
        <c:lblOffset val="100"/>
        <c:noMultiLvlLbl val="0"/>
      </c:catAx>
      <c:valAx>
        <c:axId val="491908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768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86E1-2B70-49E7-A701-28BD1FBC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CEAA-364A-4C8D-8FB1-E458493D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3F66-E983-4DB7-9C13-D44C14C8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F6C1-C39E-46C1-9751-170DAF2E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2154-65DB-4A6A-918B-C95DE457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444A-0011-4EDE-8867-E634E497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1F6E-356E-4969-9DB1-4FD522AD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F788-5670-4C24-97B6-754533DB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1020-5931-4C4D-9317-EDE528B4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8E70-E68E-4EF5-B89B-CBA376B2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B3F5-D30D-4BFD-B582-E281DB8D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0B06-356C-4085-AA82-A9956583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A5E92-172C-4A95-885C-49F04CF0C4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