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3675"/>
        <c:axId val="35958886"/>
      </c:barChart>
      <c:catAx>
        <c:axId val="6433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58886"/>
        <c:crosses val="autoZero"/>
        <c:auto val="1"/>
        <c:lblAlgn val="ctr"/>
        <c:lblOffset val="100"/>
        <c:noMultiLvlLbl val="0"/>
      </c:catAx>
      <c:valAx>
        <c:axId val="35958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3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91E-FFAC-4599-920F-3B398B21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F20-53AA-4010-ACFB-AFD920DA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EC5-3D04-4C5F-917B-6115889C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35C-B016-4EC2-9EAB-58E5E6C0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AAC-3D63-4355-AAE2-71D4AC9F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ACB-14A9-41C9-8D57-DC0E95BA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0CD-5748-4FAA-9EA5-0CE45986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00B-BE90-4E29-8FFB-FB28F0E1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B10-5EAB-488A-84B0-55E20450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BC5-CBEF-47C4-8669-D74B2D1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87F-E9A0-498D-B784-96DD0256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7F4-9CD1-4EE0-BDF3-C6E7742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FBB4F-4083-4C6F-91A5-87D032A4BF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