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6636317"/>
        <c:axId val="28656177"/>
      </c:barChart>
      <c:catAx>
        <c:axId val="7663631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656177"/>
        <c:crosses val="autoZero"/>
        <c:auto val="1"/>
        <c:lblAlgn val="ctr"/>
        <c:lblOffset val="100"/>
        <c:noMultiLvlLbl val="0"/>
      </c:catAx>
      <c:valAx>
        <c:axId val="2865617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63631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3F1D1-F820-46CD-89B8-E39F8629C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B5748-9847-4027-A5CA-CC4C1EBB6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CB8F0-F667-4C46-B2AB-B88F2AA1F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A615D-EAFB-4CF5-9FFF-AA3276340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E51FB-26E8-41AA-BE68-C18D5FB6F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06932-467D-4241-8295-DBC0635CE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595EE-A943-4820-9D0A-20B7A99EE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55323-8A9F-4F0C-8C03-4F2505DEB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D6A6E-DB04-46EE-B935-F60A0DF60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CD42E-5B5C-4DA1-92DC-416199E9B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10BBA-911A-4FB0-8307-60A04BF43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9DCB5-C3DE-4983-88F7-1EB152ED1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6AC53F-D296-4FE1-93FE-D55DA19E5DD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