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573064"/>
        <c:axId val="61551740"/>
      </c:barChart>
      <c:catAx>
        <c:axId val="385730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51740"/>
        <c:crosses val="autoZero"/>
        <c:auto val="1"/>
        <c:lblAlgn val="ctr"/>
        <c:lblOffset val="100"/>
        <c:noMultiLvlLbl val="0"/>
      </c:catAx>
      <c:valAx>
        <c:axId val="61551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730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973-A68D-4906-8812-3F60BD61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6A4-74A6-4754-9776-4C867BA4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FD2F-90D3-4918-8165-5B8F6477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F0DA-9017-48A9-A38B-6D0A59EBE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4E6-4890-4DD3-9FB0-50EEA7F6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71BD-5F95-465C-B020-9B16E797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691B-FB0A-4CA6-92E3-358D5F6A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07B-FB71-4F76-9FF4-778AD83A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D6AC-74B6-4412-9D10-A75994B0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09ED-22AF-4D06-AD0C-FD3725DA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559A-2979-49B3-844A-10E19221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8766-4B84-4B5B-9A74-D4225797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9E95D-1587-4DD0-88BC-EE428B1D96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