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55490"/>
        <c:axId val="11879038"/>
      </c:barChart>
      <c:catAx>
        <c:axId val="50955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79038"/>
        <c:crosses val="autoZero"/>
        <c:auto val="1"/>
        <c:lblAlgn val="ctr"/>
        <c:lblOffset val="100"/>
        <c:noMultiLvlLbl val="0"/>
      </c:catAx>
      <c:valAx>
        <c:axId val="11879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55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7A5-555C-4E37-BBDF-70FFA9C3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B12-9AA3-43C8-84E5-D317DABF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CC0-2F69-455C-AAA4-B9C92106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C84-BF09-4A7A-A36E-E5B04C4B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32A-BF46-4EE8-965D-802E54CC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666-0D45-4EC6-A57F-05F349C2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77A-C932-4292-ABE3-5EC61765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5F4-F79B-4E50-A1CA-B9D7ECE3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84A6-C358-48C5-9283-2453868F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273-279E-40DC-B4A6-5D90B7AC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907-67BB-4668-9F62-185D8A8C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72C-2E91-4605-8841-6B67C28C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943BE-008D-4419-860A-A86C2A3745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