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AFEBFF-4A9F-44CF-B392-E025CB31C5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53797C-A0F2-402C-81FF-8A4BFD671B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C39DB6-5053-43CD-9C18-368020527E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42D358-EA90-431E-BA7B-E19A5E68FA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7D9C06-54C7-4400-BF9F-78C0D46492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69AB0D-092F-4907-947D-879696E291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380CDC-2829-47C9-BC4B-000966B147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337427-72BB-43EE-ABB0-30478BE9A4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20ADF4-1BF0-4FCE-88C0-9D037D446B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B3F6D1-9147-4315-81FC-6AF0A59239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A223D5-DC98-4A90-85C7-782E7F3B12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2B0634-CDB2-4EB1-B136-D83C726D74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0B28F0-C9E9-40E1-99F3-46D4B85850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5C743E-F103-4336-800D-0810472D7B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CE77A9-6DF7-4775-80D1-8D3789E790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DDCBC4-09B8-4747-B6F2-BDB0D1237F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93DAA02-65D7-42EE-8B19-B837A22763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512739-B9B5-4D87-B9E0-9F385FC32D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20F2E2-1C42-4B76-A261-97C90A36AC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D03804-43B2-4739-84DC-A1DE142AB6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DF402D-A514-4258-9AC2-5E11F97BB3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305832-17D0-4E37-BF75-0C8A0FF71F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85EEB9-BA0F-4604-996E-EA704E0D68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1A9E1F-F2D2-4F9E-9D8C-77B2BBD3AB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8ABDC-05D2-4FB0-A188-8D5E707F1D6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52D89-7FC1-42EA-84E4-F70EE287BF0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AE339C8-56D8-4457-BDD1-9C55235A075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A3B8D56-784F-42E1-9111-E982B0E6CC1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D5B584-CCF0-41CC-A53D-5EF85427248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2FED08-7A92-4CBB-BF9E-2C83DFD243D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68048D-247C-4A4C-9AD2-CE5A5C5C3D6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2A2BD3-0FB8-47EF-8F34-DAAD6124354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321156-E995-4654-A044-D2A841EB37E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EC73DA-4C3D-4145-896B-ED0D7DDCC808}"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5688AC-4D2C-4244-ABF0-0B6F475F5D7A}"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F4DBBC-3DAA-47AA-900B-FA956DB75DE8}"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0B7E80-27FA-4B46-8ACD-3ED407C79F43}"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4B9ADD-5F5A-4EB8-8FBA-38DAC1489953}"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E59F70-512D-478D-B784-349F9E968F04}"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55506B-BFD3-4B3E-BB84-A1A93D659764}"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50F324-B996-41CF-9BAF-6D76F74A5B1B}"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B11665-2CC9-452D-A9F4-B3EC7BB2DAFB}"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27CCE1-7885-4560-BC7B-0DA909639909}"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4947D4-C349-47F0-AB44-7A0F4A4D8A0A}"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298E6B-EEB3-4798-A5ED-E228555C3DC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A3A492-208E-4FA1-9722-629AF3D326A7}"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C51B7C-1DA2-4CC7-871E-13F4D7209604}"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39F311-E12D-40C2-BCDD-46BEB291F8D7}"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0C55AC-9152-4A5F-B768-2CA42CCE316A}"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B12CD9-532B-405E-9AA9-99BE448A21A2}"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950BD6-5A6D-483C-A5B9-AEC735308679}"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7206BD-44BC-4BB2-8AB8-A8E0466F0291}"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C9CD2F-0A63-413B-866E-CEC992AC35C5}"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0920C78-DA0E-4D2C-8C20-2796CCBCFF34}"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6C2193-313C-4DE3-AF3A-0AB4E6DAC05B}"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12A871-EFC8-4641-A01D-4B739F7EB49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B382FE-5AAA-4218-BF1F-27DF9A727C1A}"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AD9D2A-DE69-474F-831F-0FA30EFC2DC2}"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987357-817D-4556-934E-5D850302AAC1}"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19ED6E-B490-49C4-AAE8-FAECB356CD60}"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BE9A46-1917-4178-92B4-E0963E79BBAF}"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2E3472-46B6-4268-9FA2-4D437CDC0219}"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38E7D0-8548-441B-82C7-3FDA5E8D5FDD}"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9D6530-08ED-4ED4-BA34-4F0A5CD57FE4}"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75A8D5-B2CE-4DC8-ABC1-E52AC326F337}"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9690E7-6817-48BA-B5AA-B6826A3284E6}"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1178CB-4E40-4BC8-AC8C-6E8BA2145821}"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8847B7-CC29-43DD-B9E0-7D779D32C638}"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9290FD-81CC-435B-8981-CA87DBFCB7D0}"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03FBB8-84A0-476C-B0CF-A2DD26896CE1}"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A9C309-59E7-4B2C-AF29-B1D40139383D}"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3CDB6F-F603-4755-9198-F37F6FE0CB28}"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5938F3-052E-478E-8CA1-0B46898779DB}"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62DE6A-E85D-4773-9804-50B1C5CB015C}"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7BE3219-8E52-4734-9914-141B838F7DE6}"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7245C2-CD10-41A6-8E3C-FECD90C34608}"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DA253A-BE4A-486C-84CD-4F27811A4D37}"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1A51B35-B3AA-40F3-B5F0-AA17C139CA18}"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54BC11-266E-465F-98FA-4C952339C92F}"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30730F-14F8-4179-92A5-D3403BAE94F0}"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0F23B3-84BC-4046-8A27-7EEF41A55332}"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0F4A35-D88B-4DC6-ACFA-4B41CB81737F}"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B6F446-9C88-45A3-9A6C-7EA1EDDE533D}"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419F7D-38F5-456E-AE75-85016043AAAC}"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98A55F-21B9-4475-BC01-12CAE48379F1}"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2167A00-4B23-4B9B-8C28-211D00D50B52}"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3D18D5-18B4-4671-B664-1DBF75EED72A}"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73B0C9-8D8D-4BA2-BD0D-475B12BC6101}"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A593CC-52D8-4A14-AE51-BD8029592C5E}"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C5B832-E3EE-4D65-8396-B2FD85CA569B}"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F116A4-A1B7-4E14-AFC1-E053B46BAC47}"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BFC4748-8875-450E-89F3-B40B2B294BDA}"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5C8478-4DC1-4ECD-84EE-6C0B5BF8C4E8}"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5DAAAD-8343-4822-8DAC-426F960742AF}"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ED27F8-A17A-4036-BBF7-3F0CAA4B6A6B}"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72F9BE-CF76-4042-8B4A-FAFA66AB42A1}"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A83F8BB-298B-4F64-8B68-DD5C36C1A363}"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FA1B2F-D4E6-483F-BCAF-DEEA48A25E59}"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88A332-58BE-4595-9F96-BE70F2AE4C7A}"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79CB72-78A5-40E3-96C3-FE508C38CA8D}"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55B659-7BF4-44FC-BC4D-0E0A9F48547D}"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CB6D9E-F059-4768-B7DF-9BD05E5A3AF3}"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A88086-698F-45C2-AB5C-E4C97E2ED8C4}"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1E38DD9-5294-4176-ABDE-1238569CAA46}"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D379A9-8E12-46AD-A2CE-673551E5E989}"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D6D0AC-433E-4ED6-8543-B5060C6877ED}"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B39B79-CF3C-4E51-85FC-F298BAB3885C}"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0B30755-1780-49B6-A3A1-3EF00690088F}"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B2FF65-9AE7-4D42-A3B7-550EC028A37A}"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F4071E2-996F-4ECD-9F5E-A03FC17CCB98}"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8B7CAE-5796-495B-A509-C0F4D5A4ED8F}"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8B847E-1D86-4AE6-94C0-019378D3670D}"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D150B9-CE1D-45DD-B4B5-F2B401F7A8E3}"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27AB34-7135-48D0-9E35-4639DD2ED4D6}"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05B573-5B18-496B-9FD8-30A5FDF2138C}"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6995BC-9219-4802-B79D-5786907731AB}"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2ED452-26D6-4894-89E9-081FFCA2DBA1}"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7995D8-5781-4BDB-A5EA-F49268B34DBE}"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85B9B1-3724-4B1E-9F98-EE8B3422B78D}"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B9FAF6-7A17-49E3-AED7-DAF9AE108FD0}"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F82DE0-62AC-4CE5-833E-3DCE9AB1DBB1}"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05FBF9-D1CD-40F1-9B6F-546144C263BF}"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756746-A303-4146-AB47-5C612E2084D5}"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86D782-A0F8-4C11-993D-CB636377989B}"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2BD4C7-DC13-4301-B4C2-F8B0D3AEAA1E}"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98CF878-8922-4850-BACB-E338EA05AEC6}"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245410-AAF8-4F66-96D6-52358F08528A}"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644D7D-6F6F-4E20-9DA8-BE67E3B88ACE}"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B97403-7B55-4435-BDF5-2D2655BD90F0}"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33CC5E-5C34-4D9B-8A79-33CCE9716EA6}"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E1D738-9A5C-4575-97F7-B153DED1D532}"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E53E67-B306-4491-944D-D1828E7C3984}"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9704CA-AFF8-4C8F-AF54-255DCEAA4289}"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7511FA-D9D7-43B3-8EAB-1D2558FD89D7}"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B07B7F-F66F-43EC-9964-86556C2C0103}"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55D0E0-2E3B-4C5F-A28C-AC5D4D1AAEBA}"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F507F2-BCB7-4CFD-A02D-2651E557D694}"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DB13E9-50EA-4F10-901B-690AEAA44B5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092D93-3F76-4C5C-948D-DC6C07EDB784}"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8B40BD-9D61-43CB-9614-94E35DBA778F}"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42648F-3721-4479-A27A-725BD40040CF}"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CDE6FF-9DA2-49AF-8EFD-24DFF7649D34}"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111761-5B51-4DB6-BDFC-493277B5A25D}"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57B513-B64C-436B-AA2A-A58667D37C4F}"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07711E-7C83-4FBD-B4E1-825A98AE72CE}"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ECF950-B74D-4539-A8C2-6B3DC6FD135F}"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267FE2-4079-4A3A-A4F9-963DF2AABF72}"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5A5FCA-2209-4B61-A126-E99250AE4F09}"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F393CF-5F4F-4073-917A-0BF0557AA670}"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1D5593-5F1C-4470-A3AA-6DE98A6FAC4E}"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5B5876-74D8-4741-8F98-65C85F02174D}"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1D1859-35DA-4286-90EB-D43F5CF3C59A}"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F1ABF4-4BEA-474A-94CD-283AACB3231A}"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91D5FAC-FD63-4F6D-AB4B-E36B641BCA08}"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92A684-6F60-490F-BC42-DA5D75BF49B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1C2105-E4B7-4648-923A-EE257744A68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AFC0DE-0A42-4D0A-9743-D2ECDCACDEA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EE8BA4-C5DC-463C-9ECF-3BB74657921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549CA7-9A34-4292-AD0F-5FE6328210E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9DBF12-43DF-4339-933B-3AF5CCBD9A3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A85DD82-3E4A-4128-9074-1B8C2A933C3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5260F7-73F6-4554-9A6C-92EAD2C4540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7F2F0E-9A32-4A27-AC7A-441CA74530E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9048AB-2970-4457-B3EE-C904B55ABAA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B55564-3364-49BD-8A16-0883B5A9696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13EB06-E694-4FFE-BB9C-D78E1290539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5E0335-B681-43C1-BA29-1F429E67347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EA26E4-3DAD-4EDF-AAF0-03C8D243B0A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3D0371-2289-4D8F-8A96-629C21F6AFB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584205-9032-49DC-97A1-C73A63AB2B0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A7075A-62FE-4DB3-9599-70382FC438D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FEE6A7-8F5A-4F3E-A39E-C759FBFFB87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C07E23-F6FF-4EF4-BDA6-90488499A2C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ACA736-E249-4DBA-AEAD-CB6E6089F86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16E0E0-A13A-45D7-924C-3CC965B2085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08F26B-DF7E-4C91-A260-857FCD8DEC6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41EF94-DDD3-4803-9D76-F52C688BD43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BEF950-6E6F-440A-8CB5-7DD34DBCB79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BC337F-8B44-44C9-B568-7007A731869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6FF15B-B667-4A2A-A713-ABDF57786C4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1E841A-CDB4-4C58-8503-3A635BF3CA4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241B3B-88BA-4A11-BB10-C282C73BADC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2EF595-7EEE-4D7A-A40A-B96F7E2A50E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76CB89-6137-4DF5-B55E-DF5DB5958DA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159CE8-EB9B-4C05-9D0D-48527FA7465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A5E3EB-C5D6-4A1A-883B-72254F8D904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6EC1F6-A4C9-4F1A-BA8A-FC36288E369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69969F-A634-4FEF-80B8-98DA329382F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31397C-BFEC-4A72-9263-039A088202A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6738F8-3959-4D13-B609-219C56051DC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479180-0A75-42B6-9950-341F5970B85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42BFC5-F53F-4183-8B15-DD07B3F9894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C81363-C01E-4FEF-A97D-2EBBE4E603B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25CBE6-8D8C-450A-9952-3EACCA9402F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4282E3-499F-4702-861E-FD32F66CFCB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9ED772-E11A-463C-B623-13E2422F18B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26FB7E-C30E-462C-AA17-BB66F301274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8828F8-6072-4585-A29C-AA87D852D73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9C2452-4185-4371-A9AC-E12A973CC90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6A3E72-D305-488C-AC09-F5016897F04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524819-79BA-42B4-A4E6-A44E1CF1E42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6BC90C4-E69C-4A75-9CE1-CEFCAA8E7FD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4FF701-7697-48CA-A7ED-B24E4EAE1E2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30581E-3683-427F-A531-24232C4B838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18C8C3-2DF6-4EE0-9B4D-6E616EC5BC3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48680F-2CDD-45C2-A651-F31CB4C3460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8CE485-D482-4B53-B7D6-F2D27201E99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A372FA-DBF6-4E58-8774-073814D1C0E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B466C3-C5F1-4F41-B708-1040326CBA0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6D64DB-0C2C-4BF2-9C70-ECF34575127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2C411E0-9B47-4163-B242-917A06BFB59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40F842-C9F7-43E4-BA77-E354168F46F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AD3635-D9AD-4F89-BA8A-1B917D84288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315952-B13E-4451-A3B1-1D7A5F7E83D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404AA5-7F4D-42BD-9D41-A18A76EE3EF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1784D7-620B-48CE-B2D3-8CB88AACEB6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CE589D-958C-4CB7-B12B-ECC6B5B36B4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BF12A7-F80A-4272-90E2-04C1E8672BE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14899C-19BD-4E88-9602-307C5F7FE8C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F603AC-F5DB-4881-88B6-CD1ABB86C84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B45C47-DFD7-44A4-A27C-DE19F7EA10B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5E9722-C7E4-42F0-9EF7-D1C2846A4E4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E9F1C8-1D61-45E5-93F4-D2E293F5157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29BB3C-76E2-45F6-B0C9-D26D70CAA5C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00BD94-231E-4936-890C-4BCC977E8D1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68CB1B5-4B81-422A-AEC1-C348A32F5A3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718195-F26B-48EB-833E-F91F5DDD1F1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1CC4B1-DCE8-4E21-8B70-7697D95EC31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DE8FA8-4EB0-4F60-BDE2-D345CAD2795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E53F51-A9AB-4747-865D-D950A6DBEC6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DD8D98-A4F7-433E-AD01-38F366F5B58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2C21E7-F413-4A32-AB49-B0DB29B62E0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AAEBFA-6293-4F80-BC9E-D1EF0A48F32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F85184-1612-4ADE-8FE7-334A99AF265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A6A7DC-318A-4BFD-B883-309CF485AB6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EAAAFE-49BD-43CB-87D3-6E9D8D5C006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BB1EAD-8863-4325-82A8-32885B06DBE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2A7983-5B7C-4319-8840-6E34FC6E895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B5D87B-2B6D-4E4E-A1E8-B85767CCB72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