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1A3E90-5C27-4E56-A0B5-3CE1C217CF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DB9A40-6027-4374-A49C-E69EF870A2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191098-3EA1-4B59-B8D6-D6923720DB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CB9AED-9852-42E1-A669-409C78E4E7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90BF45-C1C3-4956-AC39-840B0D5603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AEE74E-E82E-4E0E-A79A-8CA663E538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140747-F172-432F-95B6-9C0878FCFE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2CE006-43D7-4BBF-8F2D-BE1FD1FCE8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DB69D0-EB65-48C3-9404-5D28047EF5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85676A-9DA6-4476-950F-16EA723AEF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6E70DD-3E03-4A49-8E33-6FFFB315A9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0BDE22-684E-4CDF-BB27-4AE2D1CCC6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99932C-D20E-4162-B9CC-8F57A6148F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3530DD-68F3-4E0F-A697-CF88C05BC1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5B0C23-711C-44BE-BA24-C1F42A0BBE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036FEFD-09FA-4EF3-ADA7-93455B7C48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67F625-18F1-4373-B69B-B4D48BFCBC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C0C870-AF38-44D6-BD91-93CC99BD3C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352D86-174F-4526-8AA0-B9474B5258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E4FC93-9B42-4D69-801B-3753C88DDD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0DA5B8-CE10-4B9F-83F3-E300C2BA88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89D0AB-E964-4052-AA5A-C1429A3A7F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539126-51CF-464B-9E8A-A3D1EB4996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971800-0D6F-4D40-9367-323A72EF86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0F429-8E19-40ED-8591-D35EE8B1B45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940B1-2392-4F00-9864-B7DA2F947F3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E0ED62F-CEDC-483C-91C0-2251358F625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0474121-4EE4-4E04-80B3-4A54EC416B6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077DF5-0AA9-49B7-A444-FF87DA2A48C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8A220E-18EF-4207-AAFA-921BD151D5A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AF56CF-F8A5-4B5B-8E97-41B25F05DCF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B03B40-92D9-48FA-972D-9035C2E260E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83D9F0-C024-451A-9E1E-2B95B49FDC4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168AE5-20D6-49D7-8CD5-333094323FF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E6897F-2A53-40C6-BFFE-DEF1F7B1C0DE}"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749510-1DCE-4C4F-8860-85AE61029D65}"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39170C-9825-44D2-9941-75C1638FF5D5}"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684A04-A2F4-49CC-86F4-3A601EA6D796}"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79855D-DB31-4195-B9F0-755C35282801}"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667579-7F2A-44B7-A553-3BA47C452105}"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245F7A-8D8E-4A88-8180-BE6949706E23}"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1C110D-F35A-4258-9133-984A6A3ED0A5}"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CC0536-B16C-40C1-AC87-C190D201A9CE}"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D970B8-87FA-459B-90B0-4BF91A8CD47C}"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E890B2-ACAC-4835-B2B8-8BFE184C6C91}"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FF4791-9AA2-44D1-AEC2-C374A53AF44F}"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FE5FD7-890F-477B-B715-88B500A30CAF}"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1EFFF7-D9E2-4CF7-AE73-643E88965A74}"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15B989-117E-4CDE-ABD2-070F2037AAE7}"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309F4D-A6EF-4514-89D8-480EB070066B}"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6607BE-D873-49ED-9BAA-E9CF4824968A}"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4AC8CC-94F5-4218-992C-5EC9C4BED0DF}"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C69BFD-166E-40C6-8B73-B1A401434221}"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12A1B27-7E60-4ED1-8A24-FF61BAD06829}"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DAF470-CCB9-4D96-AD9A-196B3B1BFC02}"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F49603-1CAF-4DD7-A185-DA4EE478559E}"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CF06D6-9BBA-45EE-A7D6-310BA3C78238}"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1BDBCC-0564-43DF-AB6B-9BE6F84BFC87}"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9F7F4E-499D-4F23-AAF4-A5715F8C345F}"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D4E502-B384-4379-8131-764CE4147EE2}"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BE4780-C9C7-4C68-93CD-7AB495691842}"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EE8BBB-A3E5-403B-A693-C139902F2FDD}"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158892-6317-4216-A120-EAF07670A291}"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8A5578-62C1-4D97-B3D1-FCE626C58D21}"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FBF952-9A39-47DB-A079-81D272C8A827}"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088DEF-95A1-4FD8-A255-7E4B74F861EA}"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389007-349E-4A29-94E0-C50C33060316}"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6A0897-F6C2-4E29-9595-313CC30E37A7}"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FBC098-54CC-4F97-A4C0-2AE84557E547}"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11BD43-7267-4C82-A093-FEAA0961BC1F}"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525997-4BD2-46B8-A2E2-11D804AA892A}"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8EAE86-93A6-404E-AE55-8DE5AB4EA3D0}"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DDDF26-5C12-47D6-80AE-75EAA753F4B6}"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818F52-B69D-4765-945A-C5120193512A}"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BFB0D5E-F449-45C4-AF57-995B7E3CE453}"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F11C3A-6371-4177-B994-37F7633C1BFE}"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0B9FF5-8CB8-48FA-A249-436C1372BDCD}"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D1661A7-FF65-45AA-84E4-52D61A39489A}"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1DB268-793C-4DE8-B40F-7BF01693E8BA}"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6316AE-18BD-4EFE-B81D-793649145191}"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02095B-0317-4ED9-94E6-A057C39C74AF}"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94AB8C-E296-4A0D-9FDC-7C65AF0D546C}"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8364A2-200F-4D86-AEB3-598266FD65F1}"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6B5462-7DAA-4519-91F8-45D1117773CD}"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9893A7-05F7-47DC-B081-D84141390AE9}"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B3BE7FA-8640-4A8A-B49F-E8504F0F4760}"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7C41A0-BB06-4698-B882-115D9E72C45F}"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653304-8A9E-4E07-8CC2-83D25970352F}"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C9CBEA-36CD-4827-AAC7-87D0F9946649}"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6C83E9-C98D-42BF-B370-64C484F796ED}"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620256-D333-40D6-AA1B-FE7E4DC90DEC}"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DFE42AB-5122-47AB-AD41-CEDA58829023}"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399CCC-A51B-41DB-91C7-A11594789F40}"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CD6F2D-6E03-4037-94F4-443A86A76045}"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BB3E46-7BF4-4C7B-AE59-E809BEC80DBC}"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728A54-7931-4402-9C5C-F2F1D8B3CBAD}"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3D826AE-17B7-4384-8F96-CB69B6C30DBB}"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1F2A8E-0ABD-4F06-A16F-43A7A15F7F4C}"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990CC4-2CCD-4453-9E48-331EE948CED4}"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D13D2F-CF9D-43EB-B1EA-1C55907D31F8}"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978F10-AB59-439E-BE9B-9BC03939886E}"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D065DA-4F73-4074-AC9C-2FDD57E14230}"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FAAB40-B6B6-4169-AA46-A79FF0085492}"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DE36B5D-9FA0-42BA-9494-F192ACD0B563}"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098F95-1FFB-451D-830E-174DC335DE37}"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847430-9B62-4123-B306-F8981DC1FB02}"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19B035-16C5-48EA-B481-32B6F6E9C6B1}"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382E72B-C494-4E5B-B7D3-E5E1008E8C89}"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1227F6-0D9A-4218-A207-1346C8C48046}"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0749041-4C17-4CAF-A480-84E761E0D2CE}"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13233B-77AE-4056-9B46-8F2F85400EDD}"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19A290-99C3-4C21-BF9B-4FBCC76DE1A4}"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B89DA4-7213-4D7F-9D64-26BE43732CCC}"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636992-358E-4C9A-A2D0-3EF747088BE6}"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9CBA2B-5FD3-4D8A-A156-7C25EF6CEDEE}"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934D89-70B0-45E9-81BA-C86AF174C9B8}"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7BFC76-92E7-47DC-AAE8-4133BB01BAA8}"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65B72C-79AE-4F6F-8E40-283F74B34932}"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6A467E-46A2-45B5-9BC7-960E4C6A12FC}"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0F99B8-066E-4D2C-A900-BAC1B3FCFE2E}"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19F6D9-768B-451F-9481-C40D270FA213}"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CF4EBC-500B-4D04-822D-3A32F3E4E0E7}"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C8FE49-C80E-473B-B193-5E824F546534}"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21E90E-367F-45F0-8674-E1A0A60D2A18}"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27DCF3-4E8F-44CA-9C03-F91425D2DDB3}"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E7C37CD-E627-43D5-B8A5-33B872529904}"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F561FA-31B2-4431-9F1F-8B8E59023B96}"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717F6F-5FC8-44AA-9C69-600E1E5CE492}"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78EA5E-C960-4188-B2B6-8AEBB0AC2C70}"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48E047-0FB3-4C4A-BF7F-74ACD02CEAAA}"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D4F29B-A825-43CD-BB0E-961A0505E855}"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CFE297-7FDD-4EE5-B4B0-29D5D29A59AF}"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96D7E2-7AB1-46D5-AD95-A54535952149}"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6E2735-81A0-45E5-990E-B1ACD95C28FC}"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8740DC-815B-4B3F-B1C4-C57026BA595D}"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41E69B-7725-4985-B426-43A959EC06B3}"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DC5533-92C2-4BB3-BA4A-B3B06964C041}"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CCB7E4-5959-44DA-B58A-ABF7FA0D3AC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2B8340-EF6B-4F40-B132-B39A8F12CA5E}"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4A3855-02EC-4BE3-8421-01FFF48D18BD}"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6CE43B-7655-4C1B-9B4F-D09745DAF850}"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E6C3E0-7F2D-4C77-B1C0-4BE9B9F7DB12}"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3E1CEC-308E-4655-A6EB-4CC44B577A6D}"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00D3D5-65E2-4622-B66D-CFE263FB3E23}"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7C59B0-6667-444C-B9AF-BD231E22B7F0}"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8DB61D-364E-4371-9442-D71C6269A92D}"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417502-D83E-45AC-B379-E9D647F31CCB}"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4F041C-4ECE-4B55-9AC4-ADE76E5E3C18}"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289631-7CFB-4F29-ACC6-C95971379DB7}"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014850-8F9B-441D-B6A0-4B9FEAB45DB6}"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EDEBDE-EDA6-41C8-8962-E4C2CDB9D497}"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9E64CB-1FA3-4D77-8F42-264F5BDE3B77}"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C0B916-9A99-4A75-A1D5-FBC50208AA7E}"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C5C182D-C9D6-4584-883C-A7EF935308C5}"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B0DC26-7BAE-4288-A734-76EDE715ED3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2B5C19-6691-49BE-8DED-2861DC8D216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2E0F35-4965-4D1F-8A00-71709835652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17F332-8B4F-474D-A211-BD73EECC048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A028B3-446C-488E-9943-BC1F7D205F8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15884F-0096-49A2-8C0E-7907EF54F74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0C6448B-1F63-4661-87E9-29A09E1F483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0CCF7A-77A7-4FDD-BE3D-31CA6613D0D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306DA6-570A-4D04-9EF4-16134C43D53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EBA5E8-28DA-4E13-867C-1897CD797BD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2F8A90-B35F-43DC-9025-063D5E121F8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69799E-B1D0-45D0-B5C9-7ADE7D8E08C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A58EDE-03AD-4C2E-B935-4042A392B27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20ECFC-A5B8-4BA8-8D92-CC2D3FAF208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67E217-179F-4CAF-8CB4-256B748B677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6CBE84-6B90-462A-98B9-8E17B42EF85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1DEF06-C343-460A-8BC9-2EC01328FEA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B06FA9-AB05-4384-8992-9741D25678A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5BEC7E-70AF-4D9C-9B6D-4141A8C2D77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B30F27-82DB-4AAB-A2D2-12C38F2D1B0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99AE48-A12C-47F4-929F-AB35E11FB18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7DCFCD-F6E3-4862-AA56-0C06FC41993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53D1F5-3FD9-482A-822F-97F7091C651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7F8001-D80F-4CB8-8F8C-756F5C88C99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BD93C0-4C7A-4EB1-9172-07E99D93AC4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13670D-CBFA-42E6-86D3-A301BD83CD9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5C525B-A8EE-4FCB-97E2-1EBEB52F3EB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F65A09-7411-4B79-A700-EF438C550C3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D928CF-B986-41F3-94D3-C78C5394504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45A313-2447-4CE0-B989-225597E6616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2D19D1-0D0E-4125-BD36-EF555ECFDD0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5054EC-D4C8-4285-8557-CA723A3CA4B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D506F3-AB06-474D-B867-4A947320264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AF6589-63FF-46C7-92E6-E2AD4A516E6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3ECCBF-119A-4328-8DCA-B880A1ACBA0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1CF404-725E-4693-9C92-62992B0F8D3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BB4224-27CC-4A71-8771-54A06E579FD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281083-D737-48CA-987B-21591A19256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48B063-B7F8-4866-BFA7-443EADF16A7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5FE42B-AC04-46A2-9991-DAD3DA28E8A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582534-CCB4-4F77-8B07-5ED300F9ECD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A3FB05-105D-40D6-91C4-5B9CA026080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BF1698-E843-48A7-A712-3628D670985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A96ED9-CF1A-4AB9-BE65-AC94B5550A7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B366EB-6C18-4BE4-A265-6CFCA61ED37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BE45B5-FE8F-425B-A41A-8C5B7886F4E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04732B-C245-4035-87B1-99021281753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5402B5E-CF0A-4479-B841-800DE3F1CAE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8BBFFA-05D2-478D-B784-0D8689EAE0B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ED2A5D-D640-422F-B7D5-5FEA3A50CF0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F887BD-DB79-4EDB-AD02-8036C3D722D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1D0E60-38E6-415A-BCD3-83E7F6EC1A8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DA7471-5583-4700-8FA9-C5A5DC6CFF1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5ABEB5-25AA-4442-BCB8-09EF4E3F9F2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638062-1A21-49F9-906F-BFFE75E4F2B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A8D713-5F5F-4C42-A7B3-9D68F6AA865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3398174-CAB2-471E-B79E-385F6E10C69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DD41CF-46BD-40D4-B2FC-8FE4DB4A112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B43F90-213C-4E73-AF35-183B7B35F08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FAC431-4DED-4619-8EC2-3DFE57F9A1D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00E6C3-B35A-421E-9EE4-F8C9FA77431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D2881F-7A20-4B9F-AF80-2D0F836B9C5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A0352F-CFDA-40DC-B0B2-FB5F1815853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FA3EBB-E3F8-4589-AEC0-64A295AA53B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373881-F54C-411C-A9BA-AB352B3EA31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5BE586-1C5D-4629-A318-F3E1DDA3468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75A63C-DAD7-4805-8F57-001D9276CDC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4A2682-B418-4999-B30B-6E6FCE33884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CF4242-98D0-4F1A-B82F-98BC127455E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E43B1C-8B97-4F75-B169-2EE4B43ECDE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5904F3-9F80-4DAB-AECA-7B8A4734BA8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47A84C8-3BDF-43B9-A293-6DAC24C99CA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B34A27-CA26-4483-82D7-4CDE4824589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766BD7-8287-4E3F-BD8A-5989F7D2DBF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108CDC-A1ED-4E8D-88DC-7B15CCEF6FD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4BF674-F010-4C48-9947-D3844145151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9828A2-C305-4AFC-A48A-45BE205BD9F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4F2E2C-6FD0-4930-B00C-16576A76A6A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3D1A7D-49EA-4E3D-8691-88175206D83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0A1482-49C0-47CE-AEF0-8852006D8EB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F757F0-307B-4758-86C8-DD774B4175D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C0BCBD-B6E5-49D2-9473-8E6C5EA8515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891701-56EE-480C-A3C5-23A8319D0EF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613C1E-B062-470B-978D-3A41F1EB8F8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296994-DC90-41E5-85C5-52480DF25EA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