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93034"/>
        <c:axId val="43393463"/>
      </c:barChart>
      <c:catAx>
        <c:axId val="21993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3463"/>
        <c:crosses val="autoZero"/>
        <c:auto val="1"/>
        <c:lblAlgn val="ctr"/>
        <c:lblOffset val="100"/>
        <c:noMultiLvlLbl val="0"/>
      </c:catAx>
      <c:valAx>
        <c:axId val="43393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93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30D-FDE3-4A67-AB3A-89AA7AF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CFA-CD51-4942-93BF-72B5E32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54F-033B-4726-A3A9-B4BC6602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3BB-2D01-4DC6-8414-260FA7B7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FDB-B006-4886-A03C-E759CF9D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3A8-6337-424F-AD2C-E518BF9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155-0E56-485F-BF39-528F293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2D3-4D9A-4B12-979B-A1AA572C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AB2-521A-4C4E-A70F-95EE1B8D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1B2-97A2-4811-AEA2-21F5D896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A2F-B5CD-4F1C-9F63-A74F6DE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8DA-F0DA-47B0-B902-A802B07D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69695-A00F-4EA2-88E2-59ADEE3B9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