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31542"/>
        <c:axId val="81499762"/>
      </c:barChart>
      <c:catAx>
        <c:axId val="90231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99762"/>
        <c:crosses val="autoZero"/>
        <c:auto val="1"/>
        <c:lblAlgn val="ctr"/>
        <c:lblOffset val="100"/>
        <c:noMultiLvlLbl val="0"/>
      </c:catAx>
      <c:valAx>
        <c:axId val="81499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31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6B6-074C-4221-A357-55ECD2CA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40D-42C7-4850-9C46-0CC22C6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1ED-2486-4705-A18E-F4B9F4FD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7C7-4F7E-41F1-B74B-8B5CC28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AB6-99DC-4737-A1EA-BDBCB02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2D6-9898-4C9E-BC33-B90055E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565-DB6A-4519-9A7B-E09BC0FD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B3F-AFA5-4916-8B0F-BA8BEADA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471-181C-4932-B733-7A17C9F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E43-98DC-470C-86CB-D132DD8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5FB-6C5E-4818-9060-9178FE8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85C-6FCE-4921-BB9E-76C64FB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A3C9-8A1E-4745-8BCD-D199D12E9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