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17556"/>
        <c:axId val="45811899"/>
      </c:barChart>
      <c:catAx>
        <c:axId val="15017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11899"/>
        <c:crosses val="autoZero"/>
        <c:auto val="1"/>
        <c:lblAlgn val="ctr"/>
        <c:lblOffset val="100"/>
        <c:noMultiLvlLbl val="0"/>
      </c:catAx>
      <c:valAx>
        <c:axId val="45811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17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ED2-1054-48AF-BE81-B99F3694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032-A6C7-4F44-B41C-5545B612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98D-4A79-4D02-B04C-94F697B3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EB4-552C-443A-BA55-2E6701D0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2A6-D5D7-4892-95EB-5D4CDA19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42E-73AB-4AA1-9E21-2882602E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13E-5E8E-40CF-B994-FAC8C4CF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EA9-DB2C-4B1D-9BD2-37DA9787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6A6-2A27-4C7B-BD6C-734DD011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CC8-ED7A-4253-972C-D7857A93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08C-CE27-46D0-99CA-708B0E8F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0C2-6649-4E02-93E5-8C60D2D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E2FA6-9E53-49E2-9F73-3C3432C793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