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987"/>
        <c:axId val="26653846"/>
      </c:barChart>
      <c:catAx>
        <c:axId val="824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53846"/>
        <c:crosses val="autoZero"/>
        <c:auto val="1"/>
        <c:lblAlgn val="ctr"/>
        <c:lblOffset val="100"/>
        <c:noMultiLvlLbl val="0"/>
      </c:catAx>
      <c:valAx>
        <c:axId val="26653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756-0B9A-4EB8-BB78-6BEFB91C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E6D-0F0E-4834-A1D7-F1826BF0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FD0-1D4E-4640-8A63-1CE6D347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A31-BC20-49C6-8018-EB6DD4C9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F2C-965E-4D0F-A255-C07D4A19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8C3-8D48-45EB-8CBE-7806C403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64C-8CC6-4664-96F4-04D3BF82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059-00D9-439A-B446-E90D1D88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75D-8FE8-4353-B20E-0F2ADD7F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87F-B8A0-4B6D-9B4D-1F9F34B0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266-6217-4683-9FE7-A3F76A4D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1AA-1069-443C-9DA8-497D15AA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6D8CC-2B03-40A1-B8E3-94AB50A5B8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