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61427"/>
        <c:axId val="18906095"/>
      </c:barChart>
      <c:catAx>
        <c:axId val="33261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06095"/>
        <c:crosses val="autoZero"/>
        <c:auto val="1"/>
        <c:lblAlgn val="ctr"/>
        <c:lblOffset val="100"/>
        <c:noMultiLvlLbl val="0"/>
      </c:catAx>
      <c:valAx>
        <c:axId val="18906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61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6A0-970E-4503-B551-6C3C9ADF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97D-56B7-44F6-9F62-E222B62D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85D-1690-4CA8-B1C2-4834CF70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9FF-0E4A-4324-A509-0E6D12AE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42A-D3D8-42CE-8C93-6401F8B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F79-9BD3-441A-8649-C2D7018F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F24-7B82-46B3-8F5F-D3C2218A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ED1-6C33-4114-9E60-37124DFD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65B-A04D-44EA-9C8E-857C4F67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217-B382-4C36-BEE2-DC7A63B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E33-39D4-4782-AAF5-E82E1630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306-1832-4277-B8B5-3071E4B5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69534-746B-4A64-B64D-AB1DA7CC41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